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9BF3-893D-4A1F-BFF8-121AEDFA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C5C1-89BA-49FF-A536-F8D11532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1015-09CB-44DA-8008-F5EE0DCD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DBA0-A645-46E6-9D7B-5CA41B3D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8748-B865-4E80-BE27-DED71388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F74D-B2D5-4BBE-9203-FC7866B9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09B2-8B8C-4E11-8742-7699C9CC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B900-C74D-4E23-8636-D1DD3300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1B25-AC83-49E1-9640-79B688ED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F6C3-C45C-491C-87F4-AC2E1E47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84EB-2C51-433B-BC05-BAEEFF58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AF70-98A1-4136-AA2A-F348CD35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84BC-3C44-4BEB-83A8-48E7680A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DDA7-3A4D-44D9-BFA2-B93679E5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A4E2-1098-4B16-ADE7-E4ECAE4D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1962-8418-456A-A3DE-C5ABF408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4006-E376-47D6-83F8-28E5DB12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4003-F9B8-45F9-8980-DE1F7158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D891-D685-410F-A4D3-84D84684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5FF9-62CE-420B-B9B6-B04057A0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56D9-DCC4-4598-A4C7-FC0CF00C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43A1-D1A7-404D-B448-E88F1DCB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7124-5AC7-47CB-83C0-DE685049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C30A-24C5-4EC7-BFB5-46F4D86C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4020-6576-403D-B5A0-266ADB2A95BC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301F-2F26-496D-98D5-64901913F1E3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26920" y="1197000"/>
            <a:ext cx="720108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ffff"/>
                </a:solidFill>
                <a:latin typeface="Edwardian Script ITC"/>
              </a:rPr>
              <a:t>La tondeuse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ffff"/>
                </a:solidFill>
                <a:latin typeface="Edwardian Script ITC"/>
              </a:rPr>
              <a:t>Béal Success 57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1452600" y="865080"/>
            <a:ext cx="6238800" cy="467676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4716360" y="486900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rés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r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’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ss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5579640" y="2637000"/>
            <a:ext cx="144360" cy="27367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95280" y="3933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Le bouchon de la remplissage ess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340000" y="1628640"/>
            <a:ext cx="3384360" cy="2664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622520" y="882720"/>
            <a:ext cx="6764400" cy="50497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2050920" y="551664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ca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r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76360" y="2708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Moteur 4 </a:t>
            </a: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5076720" y="3789360"/>
            <a:ext cx="863640" cy="172728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08360" y="544500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Bac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vec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sac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ou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mass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32000" y="17002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igné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’accé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lérat</a:t>
            </a: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916360" y="2349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oig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ée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lanc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e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716360" y="2491920"/>
            <a:ext cx="1511280" cy="73080"/>
          </a:xfrm>
          <a:prstGeom prst="line">
            <a:avLst/>
          </a:prstGeom>
          <a:ln w="93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995640" y="1197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oignée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 homme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m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580000" y="1413000"/>
            <a:ext cx="1440000" cy="360360"/>
          </a:xfrm>
          <a:prstGeom prst="line">
            <a:avLst/>
          </a:prstGeom>
          <a:ln w="93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556000" y="4797000"/>
            <a:ext cx="431640" cy="863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7236000" y="2349000"/>
            <a:ext cx="720720" cy="251964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7093080" y="1989000"/>
            <a:ext cx="574560" cy="22320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916360" y="5229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3564000" y="5013000"/>
            <a:ext cx="792000" cy="431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00360" y="2997360"/>
            <a:ext cx="358920" cy="4316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516720" y="4149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gui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56360" y="4797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m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cccc00"/>
                </a:solidFill>
                <a:latin typeface="Arial"/>
              </a:rPr>
              <a:t>es d’ emb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rayage</a:t>
            </a:r>
            <a:r>
              <a:rPr b="0" lang="en-US" sz="1800" spc="-1" strike="noStrike">
                <a:solidFill>
                  <a:srgbClr val="cccc00"/>
                </a:solidFill>
                <a:latin typeface="Arial"/>
              </a:rPr>
              <a:t> d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o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651640" y="1916280"/>
            <a:ext cx="151272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2195640" y="547560"/>
            <a:ext cx="5470560" cy="55152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2124000" y="292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oteur 4 </a:t>
            </a: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987640" y="3213000"/>
            <a:ext cx="1368360" cy="64764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43280" y="57340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égla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auteu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ou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924360" y="5157360"/>
            <a:ext cx="0" cy="647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4036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l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795640" y="5373720"/>
            <a:ext cx="360360" cy="5032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124000" y="141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oignée </a:t>
            </a:r>
            <a:r>
              <a:rPr b="0" lang="en-US" sz="1800" spc="-1" strike="noStrike">
                <a:solidFill>
                  <a:srgbClr val="ff9966"/>
                </a:solidFill>
                <a:latin typeface="Arial"/>
              </a:rPr>
              <a:t>lanc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16360" y="1700280"/>
            <a:ext cx="1295280" cy="576360"/>
          </a:xfrm>
          <a:prstGeom prst="line">
            <a:avLst/>
          </a:prstGeom>
          <a:ln w="93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372360" y="2924280"/>
            <a:ext cx="143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Bou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er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e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8360" y="242100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Arial"/>
              </a:rPr>
              <a:t>Molet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xati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 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gui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564000" y="2492280"/>
            <a:ext cx="503280" cy="14472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5435640" y="3139560"/>
            <a:ext cx="1008000" cy="505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rcRect l="0" t="18445" r="0" b="10052"/>
          <a:stretch/>
        </p:blipFill>
        <p:spPr>
          <a:xfrm>
            <a:off x="826920" y="907920"/>
            <a:ext cx="7786800" cy="41785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6443640" y="155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teu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77080" y="1844640"/>
            <a:ext cx="287280" cy="12970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92360" y="429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Bouclier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de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132000" y="3573000"/>
            <a:ext cx="2087640" cy="792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19640" y="1844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batt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651640" y="2133720"/>
            <a:ext cx="720720" cy="863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627280" y="148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Ba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vec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sa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140360" y="1916280"/>
            <a:ext cx="287280" cy="1008000"/>
          </a:xfrm>
          <a:prstGeom prst="line">
            <a:avLst/>
          </a:prstGeom>
          <a:ln w="93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716360" y="4724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La poignée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 de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réglage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 de la hauteur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de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cou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6516720" y="4292640"/>
            <a:ext cx="287280" cy="50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95640" y="1197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Consignes </a:t>
            </a: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de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écurit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43280" y="1484280"/>
            <a:ext cx="792360" cy="172872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76360" y="1125360"/>
            <a:ext cx="15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71640" y="981000"/>
            <a:ext cx="27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Contacteur</a:t>
            </a: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’allu</a:t>
            </a: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mage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t dém</a:t>
            </a: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arrage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68360" y="1268280"/>
            <a:ext cx="432000" cy="8654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452600" y="865080"/>
            <a:ext cx="6238800" cy="46767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2700360" y="50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d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cc66ff"/>
                </a:solidFill>
                <a:latin typeface="Arial"/>
              </a:rPr>
              <a:t>am</a:t>
            </a: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sa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g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rcRect l="18846" t="24958" r="1552" b="21228"/>
          <a:stretch/>
        </p:blipFill>
        <p:spPr>
          <a:xfrm>
            <a:off x="479520" y="811080"/>
            <a:ext cx="7770600" cy="40798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539640" y="1890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 sécurités lors de l’utilisation de la tond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9280" y="494172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TTEN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l faut lire la no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659640" y="4979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TTEN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l ne faut pas mett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es mains ou 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ieds sous le car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and le moteur mar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00720" y="5013360"/>
            <a:ext cx="223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TENTI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 faut déb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anch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ntiparas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o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 répar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340000" y="4941720"/>
            <a:ext cx="223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T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l fau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’éloigner d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a t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use qu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 marche 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452600" y="865080"/>
            <a:ext cx="6238800" cy="46767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5076720" y="5013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régl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hauteu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cou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124000" y="5084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la ro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2411280" y="3789000"/>
            <a:ext cx="79236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5796000" y="3789000"/>
            <a:ext cx="431640" cy="136836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452600" y="865080"/>
            <a:ext cx="6238800" cy="467676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3419640" y="551664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916360" y="544500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la l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635280" y="3789360"/>
            <a:ext cx="649440" cy="1727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132000" y="40464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Le régl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hauteu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cou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775640" y="242100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v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fix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d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5076720" y="2637000"/>
            <a:ext cx="2735280" cy="1152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131640" y="692280"/>
            <a:ext cx="71640" cy="2887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042920" y="59500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bo</a:t>
            </a:r>
            <a:r>
              <a:rPr b="0" lang="en-US" sz="1800" spc="-1" strike="noStrike">
                <a:solidFill>
                  <a:srgbClr val="52527c"/>
                </a:solidFill>
                <a:latin typeface="Arial"/>
              </a:rPr>
              <a:t>îti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rans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iss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caniq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1187280" y="4652640"/>
            <a:ext cx="648000" cy="1368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3716280"/>
            <a:ext cx="14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’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ar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bre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1042920" y="3715920"/>
            <a:ext cx="792360" cy="36036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042920" y="4076640"/>
            <a:ext cx="936720" cy="936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77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770" fill="hold"/>
                                        <p:tgtEl>
                                          <p:spTgt spid="5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8" dur="77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0" dur="77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4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4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406520" y="843120"/>
            <a:ext cx="6334200" cy="46735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5148360" y="4653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580000" y="4149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a bou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292360" y="3141360"/>
            <a:ext cx="647640" cy="1150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619280" y="4365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La cul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2771640" y="3068640"/>
            <a:ext cx="1152720" cy="1512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276720" y="2060280"/>
            <a:ext cx="2950920" cy="1800360"/>
            <a:chOff x="3276720" y="2060280"/>
            <a:chExt cx="2950920" cy="1800360"/>
          </a:xfrm>
        </p:grpSpPr>
        <p:sp>
          <p:nvSpPr>
            <p:cNvPr id="597" name=""/>
            <p:cNvSpPr/>
            <p:nvPr/>
          </p:nvSpPr>
          <p:spPr>
            <a:xfrm flipH="1" flipV="1">
              <a:off x="4932360" y="2133360"/>
              <a:ext cx="1295280" cy="21564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3850920" y="2060280"/>
              <a:ext cx="1081080" cy="730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3276720" y="2060640"/>
              <a:ext cx="574560" cy="7920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276720" y="2852640"/>
              <a:ext cx="503280" cy="7923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3850920" y="3645000"/>
              <a:ext cx="865080" cy="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4716000" y="3644640"/>
              <a:ext cx="792360" cy="21564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5508720" y="3068640"/>
              <a:ext cx="503280" cy="7920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011640" y="2349360"/>
              <a:ext cx="215640" cy="7923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4572000" y="4797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s vis 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fixation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de 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ul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5219280" y="3789360"/>
            <a:ext cx="144360" cy="1224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0920" y="3573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’ anti-para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050920" y="3789360"/>
            <a:ext cx="2449800" cy="7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3:20:58Z</dcterms:created>
  <dc:creator>EREA AJACCIO POSTE 3</dc:creator>
  <dc:description/>
  <dc:language>en-US</dc:language>
  <cp:lastModifiedBy>bourdillon--carlotti</cp:lastModifiedBy>
  <dcterms:modified xsi:type="dcterms:W3CDTF">2008-05-26T19:48:20Z</dcterms:modified>
  <cp:revision>18</cp:revision>
  <dc:subject/>
  <dc:title>Diapositive 1</dc:title>
</cp:coreProperties>
</file>