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D1B7-1F86-4EEE-AD77-CB5BE166F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2B33-BFC3-4CAD-8B00-01914C23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5C26-8BF6-4D69-A952-D098CB8EA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4D57-5176-457F-941A-053D34F07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AF42-E4D4-4CB4-BB4B-A7EE0C2C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D424-89B6-4807-9D93-B183FC34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749C-C155-4507-87C7-AADFB0FE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1B53-CDCE-478D-B74E-ADDC00AD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AF00-A045-4408-9E2E-1D057195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CCF2-0950-4F2E-8961-E3F25A59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76CB-4DCC-412D-8976-802BBBDB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9C12-C851-4F29-9830-BE09E7DB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C30A-D044-4AB6-84F8-53A295219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e régle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1552" t="41289" r="11927" b="51238"/>
          <a:stretch/>
        </p:blipFill>
        <p:spPr>
          <a:xfrm>
            <a:off x="0" y="2637000"/>
            <a:ext cx="8999640" cy="583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flipV="1">
            <a:off x="1042920" y="2997360"/>
            <a:ext cx="16574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64000" y="537372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4508640"/>
            <a:ext cx="151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458136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6732360" y="2997360"/>
            <a:ext cx="1871640" cy="158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84720" y="465300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métalli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5219640" y="1196640"/>
            <a:ext cx="15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40360" y="836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cri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69228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ésentation du rég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2392" t="41614" r="10783" b="52256"/>
          <a:stretch/>
        </p:blipFill>
        <p:spPr>
          <a:xfrm>
            <a:off x="1908000" y="2060640"/>
            <a:ext cx="33512400" cy="2512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24000" y="422100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422100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24000" y="515772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24000" y="522936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11640" y="4221000"/>
            <a:ext cx="0" cy="1368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08360" y="4149720"/>
            <a:ext cx="0" cy="1440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08360" y="5373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4000" y="5516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92720" y="4221000"/>
            <a:ext cx="0" cy="1368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932360" y="4292640"/>
            <a:ext cx="216000" cy="1297080"/>
            <a:chOff x="4932360" y="4292640"/>
            <a:chExt cx="216000" cy="1297080"/>
          </a:xfrm>
        </p:grpSpPr>
        <p:sp>
          <p:nvSpPr>
            <p:cNvPr id="63" name=""/>
            <p:cNvSpPr/>
            <p:nvPr/>
          </p:nvSpPr>
          <p:spPr>
            <a:xfrm>
              <a:off x="5148360" y="4292640"/>
              <a:ext cx="0" cy="7207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4932360" y="5013360"/>
              <a:ext cx="216000" cy="360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32360" y="537372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4932360" y="544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55897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58920" y="836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ure du rég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12:47:14Z</dcterms:created>
  <dc:creator>EREA ajaccio poste 2</dc:creator>
  <dc:description/>
  <dc:language>en-US</dc:language>
  <cp:lastModifiedBy>EREA ajaccio poste 2</cp:lastModifiedBy>
  <dcterms:modified xsi:type="dcterms:W3CDTF">2008-10-07T07:17:08Z</dcterms:modified>
  <cp:revision>6</cp:revision>
  <dc:subject/>
  <dc:title>Diapositive 1</dc:title>
</cp:coreProperties>
</file>