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8E6-2AF3-4E4D-BF0D-5BE82E0B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74E-F875-40E5-98A4-23C45B6B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40B-312E-4B45-AAFA-AA667162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546-98F5-43CF-9217-28BEEC57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151-0CC5-44A0-B8F3-2687EC96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414-5E3F-4095-9C16-FA8AF6EC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983-31F7-4275-8965-2EDE4CD2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F48-0376-4C1D-843D-9A758681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DFE-78D7-410E-80B9-6236DE04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D28-77F0-491E-983D-948F687C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157-4473-4A76-B418-AB779B2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D9F-1945-4ECC-A717-1FCDAC8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B109-B398-4DA7-A8E9-4C3DC102C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Quelques outils BOST</a:t>
            </a:r>
            <a:br>
              <a:rPr sz="100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4613" t="0" r="50409" b="0"/>
          <a:stretch/>
        </p:blipFill>
        <p:spPr>
          <a:xfrm>
            <a:off x="4067280" y="476280"/>
            <a:ext cx="1020600" cy="511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40770" t="0" r="44226" b="0"/>
          <a:stretch/>
        </p:blipFill>
        <p:spPr>
          <a:xfrm>
            <a:off x="539640" y="549360"/>
            <a:ext cx="993960" cy="496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27671" t="3086" r="53865" b="3086"/>
          <a:stretch/>
        </p:blipFill>
        <p:spPr>
          <a:xfrm>
            <a:off x="7236000" y="476280"/>
            <a:ext cx="1303200" cy="496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515772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609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rnevis p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300640"/>
            <a:ext cx="649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6021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6165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nevis cruciforme Phil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451640" y="4941720"/>
            <a:ext cx="433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5805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nevis cruciforme Pozidr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9281" t="6978" r="44016" b="0"/>
          <a:stretch/>
        </p:blipFill>
        <p:spPr>
          <a:xfrm>
            <a:off x="971640" y="907920"/>
            <a:ext cx="1181160" cy="493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41914" t="2340" r="43082" b="2306"/>
          <a:stretch/>
        </p:blipFill>
        <p:spPr>
          <a:xfrm>
            <a:off x="3851280" y="907920"/>
            <a:ext cx="1103400" cy="496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33851" t="3866" r="50001" b="0"/>
          <a:stretch/>
        </p:blipFill>
        <p:spPr>
          <a:xfrm>
            <a:off x="6732720" y="907920"/>
            <a:ext cx="1154160" cy="496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6360" y="5013360"/>
            <a:ext cx="1429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609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é à fou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876720" y="5229360"/>
            <a:ext cx="431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6165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é mi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284720" y="522936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595008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6021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é polyg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2609640" cy="4248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21385" t="0" r="28669" b="0"/>
          <a:stretch/>
        </p:blipFill>
        <p:spPr>
          <a:xfrm>
            <a:off x="6222960" y="1628640"/>
            <a:ext cx="1590840" cy="446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92360" y="4941720"/>
            <a:ext cx="144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6093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é e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76720" y="5445000"/>
            <a:ext cx="35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6093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é à pipe débouch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23757" t="6978" r="39255" b="2315"/>
          <a:stretch/>
        </p:blipFill>
        <p:spPr>
          <a:xfrm>
            <a:off x="611280" y="1844640"/>
            <a:ext cx="2232000" cy="4105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23474" t="3866" r="31537" b="0"/>
          <a:stretch/>
        </p:blipFill>
        <p:spPr>
          <a:xfrm>
            <a:off x="5508720" y="1700280"/>
            <a:ext cx="2808360" cy="450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79640" y="558972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3640" y="61657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6093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é mâle e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164000" y="595008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6237360"/>
            <a:ext cx="172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é torx e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39281" t="3824" r="38044" b="0"/>
          <a:stretch/>
        </p:blipFill>
        <p:spPr>
          <a:xfrm>
            <a:off x="3780000" y="1700280"/>
            <a:ext cx="1368360" cy="4352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4211280" y="5661000"/>
            <a:ext cx="289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623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eau riv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023" t="0" r="21337" b="0"/>
          <a:stretch/>
        </p:blipFill>
        <p:spPr>
          <a:xfrm>
            <a:off x="2340000" y="1600200"/>
            <a:ext cx="396072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3276360" y="4508640"/>
            <a:ext cx="21589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6237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nevis avec clé pour mieux serrer les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58:44Z</dcterms:created>
  <dc:creator>EREA AJACCIO POSTE 3</dc:creator>
  <dc:description/>
  <dc:language>en-US</dc:language>
  <cp:lastModifiedBy>EREA AJACCIO POSTE 3</cp:lastModifiedBy>
  <dcterms:modified xsi:type="dcterms:W3CDTF">2008-09-30T09:54:33Z</dcterms:modified>
  <cp:revision>20</cp:revision>
  <dc:subject/>
  <dc:title>Diapositive 1</dc:title>
</cp:coreProperties>
</file>