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5D2-E6D8-4D84-8C89-408D92AE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F23-7507-41CE-9EF1-115AF958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674-56C6-4A65-B8AB-4D1AF13A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B49-3381-4913-8D81-B13E6373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E56-D00B-4F3F-BFD5-E52B4121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AD4-956E-45DB-BBBF-9A68C38E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F19-03D7-4EB4-89CC-8EB0DEE4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17D5-F8CC-4E8C-A108-9081F534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FCD5-6699-4E08-9A11-C66BF88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3E51-6AAB-46D9-82A1-772B431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77DF-817B-4650-87BD-48903C1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C5C-F68E-41A9-8086-D4D92B2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86D-E395-4493-A109-576A2F4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BD4-06F9-44B2-983A-3E2C074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B59-F0A3-4FE2-B5F0-5622B13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EC5-1CE0-4192-A5D3-8D416D5B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690-B05B-40EA-8B9E-63D5454B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89D-D4DC-4566-AD1B-71540E2E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B98-8942-451F-8097-6119B826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B91-8548-4079-BE4F-89C30061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55D-A951-40E4-9D4B-653833A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C00-62B0-4AFA-BE86-826EF216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549-ACBC-4AE4-B727-14DE4B8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C92-9DD0-41D9-BB32-8C1B547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AC6-E70C-4A3C-A6C3-7C4FCC593A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1BB1-BA78-4DAD-AEA2-95A1B6C702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71640" y="836640"/>
            <a:ext cx="34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e  motobineus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RP S5BD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2205000"/>
            <a:ext cx="896796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équipé du moteu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RIGGS &amp; STRATTON POWERBUILT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.5 Ch (HP)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22520" t="1946" r="13073" b="20583"/>
          <a:stretch/>
        </p:blipFill>
        <p:spPr>
          <a:xfrm>
            <a:off x="1619280" y="836640"/>
            <a:ext cx="6192720" cy="5319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635280" y="18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 réserv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260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 bouchon du réserv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620640"/>
            <a:ext cx="6494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892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Verdana"/>
              </a:rPr>
              <a:t>Le filtre à 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00360" y="4437000"/>
            <a:ext cx="50328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620640"/>
            <a:ext cx="504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sta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403280" y="2852280"/>
            <a:ext cx="165600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04000" y="22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Le robinet d’ess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08360" y="2708280"/>
            <a:ext cx="2158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6237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Le lanc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4868640"/>
            <a:ext cx="86364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260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Le cache du pot d’échappe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620640"/>
            <a:ext cx="1150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364500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câble d’accéléra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372000" y="3428640"/>
            <a:ext cx="863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5714" t="7624" r="4050" b="9248"/>
          <a:stretch/>
        </p:blipFill>
        <p:spPr>
          <a:xfrm>
            <a:off x="2411280" y="260280"/>
            <a:ext cx="5137200" cy="6310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11280" y="4292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Le bloc cylind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2360" y="4653000"/>
            <a:ext cx="3024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479736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le bouchon de remplissage d’huile moteu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6ff66"/>
                </a:solidFill>
                <a:latin typeface="Verdana"/>
              </a:rPr>
              <a:t>et la jauge d’huile mote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56000" y="515772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333360"/>
            <a:ext cx="18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 bouchon du réserv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643280" y="476280"/>
            <a:ext cx="20894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20000" y="148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 réserv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227280" y="1628280"/>
            <a:ext cx="792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0" t="950" r="0" b="20583"/>
          <a:stretch/>
        </p:blipFill>
        <p:spPr>
          <a:xfrm>
            <a:off x="250920" y="836640"/>
            <a:ext cx="8675640" cy="51069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59421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Verdana"/>
              </a:rPr>
              <a:t>La poulie montée sur le vilebrequ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826920" y="4076280"/>
            <a:ext cx="108108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94216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La poulie montée sur l’arbre de trans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59280" y="4508640"/>
            <a:ext cx="43344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8000" y="621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 galet tend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56000" y="4941720"/>
            <a:ext cx="36036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98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ourro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356000" y="1484280"/>
            <a:ext cx="15112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260280"/>
            <a:ext cx="58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BRAYAGE PAR GALET TEND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5849" t="0" r="2969" b="0"/>
          <a:stretch/>
        </p:blipFill>
        <p:spPr>
          <a:xfrm>
            <a:off x="1332000" y="404640"/>
            <a:ext cx="6624720" cy="6121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08720" y="2421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435640" y="1844280"/>
            <a:ext cx="936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19890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cc"/>
                </a:solidFill>
                <a:latin typeface="Verdana"/>
              </a:rPr>
              <a:t>Le guidon ou le manche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580392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Les disques de protège cultur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’éperon de le ter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620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La manette d’accéléra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780000" y="692280"/>
            <a:ext cx="338436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410920" y="537336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787640" y="4724280"/>
            <a:ext cx="115236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2924280"/>
            <a:ext cx="19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Le levier de réglage du guidon en déport et hau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716000" y="2276640"/>
            <a:ext cx="64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Le châs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3933720"/>
            <a:ext cx="100944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501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Le carter de trans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058920" y="4652640"/>
            <a:ext cx="4330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389480" cy="5853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9640" y="4076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uteaux ou les lames de fra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4581360"/>
            <a:ext cx="1728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141300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Verdana"/>
              </a:rPr>
              <a:t>Le guidon ou manche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68360" y="1341360"/>
            <a:ext cx="1656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36450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s disques protège cul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00360" y="4005360"/>
            <a:ext cx="647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57360" y="148428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Le moteur 4 tem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642920" y="1773360"/>
            <a:ext cx="79236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2421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a tôle de protection des fra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51640" y="2852640"/>
            <a:ext cx="12254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15387" t="8647" r="11927" b="12886"/>
          <a:stretch/>
        </p:blipFill>
        <p:spPr>
          <a:xfrm>
            <a:off x="755640" y="476280"/>
            <a:ext cx="7704000" cy="584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7964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Verdana"/>
              </a:rPr>
              <a:t>L’éperon de ter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8000" y="4508640"/>
            <a:ext cx="1368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8000" y="5445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602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s disques protège cul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12000" y="5445000"/>
            <a:ext cx="288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4653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Le châs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348000" y="4005000"/>
            <a:ext cx="2160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54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Le levier de réglage du guidon en déport et hau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355640" y="1341360"/>
            <a:ext cx="79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1773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Verdana"/>
              </a:rPr>
              <a:t>La poignée d’embrayage «homme mort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187280" y="1125360"/>
            <a:ext cx="216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Le moteur 4 tem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659640" y="1484280"/>
            <a:ext cx="5047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2708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e guidon ou le manche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16360" y="1988640"/>
            <a:ext cx="7189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56610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Les couteaux ou les lames de fra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356000" y="4941360"/>
            <a:ext cx="1511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378936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carter de trans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916360" y="3715920"/>
            <a:ext cx="2663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8063" t="20007" r="6561" b="9257"/>
          <a:stretch/>
        </p:blipFill>
        <p:spPr>
          <a:xfrm>
            <a:off x="539640" y="1125360"/>
            <a:ext cx="7740720" cy="4810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7524720" y="242100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7667640" y="3499920"/>
            <a:ext cx="4334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2920" y="515772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Verdana"/>
              </a:rPr>
              <a:t>Le guidon</a:t>
            </a:r>
            <a:r>
              <a:rPr b="0" lang="en-US" sz="18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ou</a:t>
            </a:r>
            <a:r>
              <a:rPr b="0" lang="en-US" sz="18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manche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720" y="4508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Verdana"/>
              </a:rPr>
              <a:t>L’éperon de ter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11640" y="400536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1197000"/>
            <a:ext cx="192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Le levier de réglage du guidon en déport et hau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716360" y="263700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32720" y="4581360"/>
            <a:ext cx="15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 bouchon du réserv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1844640"/>
            <a:ext cx="129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erdana"/>
              </a:rPr>
              <a:t>Le réserv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404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manette d’accéléra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98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13372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cc"/>
                </a:solidFill>
                <a:latin typeface="Verdana"/>
              </a:rPr>
              <a:t>Le levier de commande de marche avant et arriè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342900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6021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La tôle de protection des fra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35640" y="4941720"/>
            <a:ext cx="36036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843280" y="4437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6919" t="0" r="6561" b="0"/>
          <a:stretch/>
        </p:blipFill>
        <p:spPr>
          <a:xfrm>
            <a:off x="1835280" y="836640"/>
            <a:ext cx="5905440" cy="5400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08000" y="31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châs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3500280"/>
            <a:ext cx="2016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6760" y="9079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Verdana"/>
              </a:rPr>
              <a:t>Le guidon ou le manche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80000" y="1268280"/>
            <a:ext cx="72072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35640" y="566100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Verdana"/>
              </a:rPr>
              <a:t>L’éperon de ter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5733720"/>
            <a:ext cx="8632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72360" y="3429000"/>
            <a:ext cx="23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Le levier de réglage du guidon en déport et hau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003640" y="335772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25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manette d’accéléra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341360"/>
            <a:ext cx="122400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01080" y="11592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levier de commande de marche avant et arriè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20000" y="1125360"/>
            <a:ext cx="288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414972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a tôle de protection des fra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59280" y="4437000"/>
            <a:ext cx="93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0" r="25763" b="0"/>
          <a:stretch/>
        </p:blipFill>
        <p:spPr>
          <a:xfrm>
            <a:off x="1979640" y="836640"/>
            <a:ext cx="5929200" cy="5013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79600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Roue de transport amov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16720" y="1341360"/>
            <a:ext cx="216000" cy="23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5300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Les Couteaux ou lames de fra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80000" y="4581000"/>
            <a:ext cx="71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POSITION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3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0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1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2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4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50800" y="863640"/>
            <a:ext cx="6242400" cy="4681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187280" y="189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POSITION TRAV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116000" y="907920"/>
            <a:ext cx="6945480" cy="36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tie moteu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9:30:45Z</dcterms:created>
  <dc:creator>EREA ajaccio poste 2</dc:creator>
  <dc:description/>
  <dc:language>en-US</dc:language>
  <cp:lastModifiedBy>bourdillon--carlotti</cp:lastModifiedBy>
  <cp:lastPrinted>2008-05-20T06:45:45Z</cp:lastPrinted>
  <dcterms:modified xsi:type="dcterms:W3CDTF">2009-01-20T09:29:23Z</dcterms:modified>
  <cp:revision>40</cp:revision>
  <dc:subject/>
  <dc:title>Les motobineuses </dc:title>
</cp:coreProperties>
</file>