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A44-5538-4C61-983A-53D23035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171-0E4F-4068-BA0B-82CD4DB9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2C6-D7B8-4F36-A0D0-8B528F15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36C-069E-4CD6-81F4-9DB7DAD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263-5565-4246-8CC1-12888633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385-1548-4331-A57A-187BB9D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A90-91D8-4E4F-9D27-12BF7A2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B70-5ABE-4171-BA19-1B2C7145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2DB-47D2-4A08-9FAC-478E63E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9A7-2348-4BC1-A346-1D96044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A65-AF6A-4987-89F5-4367507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A11-034E-467A-B0D8-606F570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355-585F-4DF8-B478-58ADBC52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2421000"/>
            <a:ext cx="36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cc00"/>
                </a:solidFill>
                <a:latin typeface="Arial Black"/>
              </a:rPr>
              <a:t>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cc00"/>
                </a:solidFill>
                <a:latin typeface="Arial Black"/>
              </a:rPr>
              <a:t>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365720"/>
            <a:ext cx="69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Model 196437/ Type 1060-E1/ Code/ 001129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90792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omic Sans MS"/>
              </a:rPr>
              <a:t>Les pièces d’un moteur 4T BRIGGS &amp; STRA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6707" t="1577" r="2132" b="6139"/>
          <a:stretch/>
        </p:blipFill>
        <p:spPr>
          <a:xfrm>
            <a:off x="1547640" y="476280"/>
            <a:ext cx="6769440" cy="577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1476360" y="4941720"/>
            <a:ext cx="180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941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a poignée du lan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651640" y="2636640"/>
            <a:ext cx="1944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4437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ntacteur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268280"/>
            <a:ext cx="331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651280" y="4941720"/>
            <a:ext cx="158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6308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 lan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981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a bou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71640" y="285228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filtre à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7440" t="3191" r="9314" b="4525"/>
          <a:stretch/>
        </p:blipFill>
        <p:spPr>
          <a:xfrm>
            <a:off x="1763640" y="189000"/>
            <a:ext cx="5657760" cy="61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3429000"/>
            <a:ext cx="252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14172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e pot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836640"/>
            <a:ext cx="18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emplissage d’huile et jauge d’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197000"/>
            <a:ext cx="143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5300640"/>
            <a:ext cx="20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577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 niveau d’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19280" y="4365360"/>
            <a:ext cx="136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14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vilebreq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6602" t="10172" r="4630" b="3895"/>
          <a:stretch/>
        </p:blipFill>
        <p:spPr>
          <a:xfrm>
            <a:off x="1042920" y="836640"/>
            <a:ext cx="6265800" cy="512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1476360" y="5013360"/>
            <a:ext cx="237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580536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rter d’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363640" y="515772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558972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emplissage d 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0940" t="0" r="10706" b="0"/>
          <a:stretch/>
        </p:blipFill>
        <p:spPr>
          <a:xfrm>
            <a:off x="2411280" y="260280"/>
            <a:ext cx="570888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1547640" y="2060280"/>
            <a:ext cx="360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e réservoir d’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60640"/>
            <a:ext cx="15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941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 bouchon de vid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805360"/>
            <a:ext cx="15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7942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6280"/>
            <a:ext cx="28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 bouchon d’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5373720"/>
            <a:ext cx="396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3068640"/>
            <a:ext cx="197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robinet d’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3357720"/>
            <a:ext cx="324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692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9:07:52Z</dcterms:created>
  <dc:creator> EREA ajaccio poste 1</dc:creator>
  <dc:description/>
  <dc:language>en-US</dc:language>
  <cp:lastModifiedBy>EREA</cp:lastModifiedBy>
  <dcterms:modified xsi:type="dcterms:W3CDTF">2008-12-11T07:59:15Z</dcterms:modified>
  <cp:revision>17</cp:revision>
  <dc:subject/>
  <dc:title>Diapositive 1</dc:title>
</cp:coreProperties>
</file>