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B44B-77E3-4459-AB51-DA74ABEE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BF34-8FA2-4D6F-8592-8A6A8E2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B175-7462-4EB4-9BF1-0DC44377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753-A92E-4A9C-A356-A1EFDD366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222-B31D-4FD4-9658-F6C8398B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785-EBAF-4E04-9F30-D5FEC045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58C-DEDB-43F1-979E-3113C41A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AA3-E596-464A-81C6-BABDCCF8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7622-7EC4-47C3-8DE4-5C67ADFE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21D-CCD3-4E71-8484-1912036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86AC-51D8-4C4F-BA87-0024DDD7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D59-4874-4266-8F45-5ED34EC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2B24-3206-46AF-8302-F0852895B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moteur Kubota gh400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x 13hp – 3600 tr/mn - 389cm</a:t>
            </a:r>
            <a:r>
              <a:rPr b="0" lang="fr-FR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ait par : AZAKOUN BRA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5282" t="0" r="6730" b="0"/>
          <a:stretch/>
        </p:blipFill>
        <p:spPr>
          <a:xfrm>
            <a:off x="1258920" y="836640"/>
            <a:ext cx="5977080" cy="509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258920" y="4797000"/>
            <a:ext cx="1081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609300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6165720"/>
            <a:ext cx="158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éservoir d’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84360" y="1413000"/>
            <a:ext cx="1366560" cy="57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8000" y="836640"/>
            <a:ext cx="11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iltre à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67280" y="4365720"/>
            <a:ext cx="172728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96360" y="5589720"/>
            <a:ext cx="15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nceu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76720" y="764640"/>
            <a:ext cx="201600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40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arbur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651640" y="2276280"/>
            <a:ext cx="180000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15280" y="1844640"/>
            <a:ext cx="1728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laque descriptive du 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4508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6093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auge d’essence pour évaluer la quantité ess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292640"/>
            <a:ext cx="194292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60213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ignée de lanc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2924280"/>
            <a:ext cx="136692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781360"/>
            <a:ext cx="13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ontacteur allumage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258560" y="3284640"/>
            <a:ext cx="129708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3789360"/>
            <a:ext cx="15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ouchon remplissage ess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219640" y="691920"/>
            <a:ext cx="2160720" cy="64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0360" y="476280"/>
            <a:ext cx="143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èce pour soulever le moteu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4243" t="1339" r="14243" b="3526"/>
          <a:stretch/>
        </p:blipFill>
        <p:spPr>
          <a:xfrm>
            <a:off x="1692360" y="404640"/>
            <a:ext cx="5832360" cy="5818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43280" y="1197000"/>
            <a:ext cx="295308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67640" y="1268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1413000"/>
            <a:ext cx="154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24720" y="134136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nti-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1989000"/>
            <a:ext cx="244800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24720" y="278136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il haute t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4581360"/>
            <a:ext cx="16574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24720" y="5516640"/>
            <a:ext cx="161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995280" y="595008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40000" y="59421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ouchon de vidange d’huile 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476000" y="4076640"/>
            <a:ext cx="108108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429264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nc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5084640"/>
            <a:ext cx="1619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auge d’huile et le bouchon  rempli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3645000"/>
            <a:ext cx="136872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3860640"/>
            <a:ext cx="15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arter d’huile mo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621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numéro de série du mo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932000" y="602136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1403280" y="4221000"/>
            <a:ext cx="1728720" cy="12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51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type du 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227664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ontacteur d’allumage on/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476360" y="2565000"/>
            <a:ext cx="10796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0" t="0" r="8469" b="0"/>
          <a:stretch/>
        </p:blipFill>
        <p:spPr>
          <a:xfrm>
            <a:off x="1187280" y="907920"/>
            <a:ext cx="6434280" cy="5272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164360" y="242100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242100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t d’é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93080" y="4581360"/>
            <a:ext cx="57600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7640" y="458136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éservoir d’ess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4869000"/>
            <a:ext cx="122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602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vilebrequ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3059280" y="5589720"/>
            <a:ext cx="72072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62164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carter d’huile mo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16000" y="3284640"/>
            <a:ext cx="2951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328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loc  cyl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580536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jauge d’huile et le bouchon  remplis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5640" y="494172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1159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pe d’é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067280" y="692280"/>
            <a:ext cx="50328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076640"/>
            <a:ext cx="111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vis de fixation du carter d’hu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115640" y="414972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65360"/>
            <a:ext cx="11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276640"/>
            <a:ext cx="118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il haute 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7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97000"/>
            <a:ext cx="11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nti-para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1700280"/>
            <a:ext cx="1296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20016" t="0" r="0" b="0"/>
          <a:stretch/>
        </p:blipFill>
        <p:spPr>
          <a:xfrm>
            <a:off x="1403280" y="189000"/>
            <a:ext cx="6191280" cy="580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3347640" y="5084640"/>
            <a:ext cx="647640" cy="100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602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éservoir d’ess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43640" y="1557360"/>
            <a:ext cx="1295280" cy="14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96360" y="170028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iltre à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476360" y="1268280"/>
            <a:ext cx="12952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70028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pot d’é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076640"/>
            <a:ext cx="13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vilebrequ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331640" y="4076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6360" y="2781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bouchon du réservo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803640" y="2923920"/>
            <a:ext cx="8636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45086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nc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7164000" y="429228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0" t="0" r="34558" b="-536"/>
          <a:stretch/>
        </p:blipFill>
        <p:spPr>
          <a:xfrm>
            <a:off x="1979640" y="692280"/>
            <a:ext cx="4624200" cy="5329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421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 carburat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763280" y="2349360"/>
            <a:ext cx="107964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1125360"/>
            <a:ext cx="20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ot d’é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011640" y="148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00536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lanc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1258560" y="4220640"/>
            <a:ext cx="1152360" cy="28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9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filtre à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115640" y="98100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4797360"/>
            <a:ext cx="647640" cy="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81040" y="472428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vilebrequ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227640" y="3357720"/>
            <a:ext cx="79236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3141720"/>
            <a:ext cx="180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ipe d’échapp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284640"/>
            <a:ext cx="17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97360"/>
            <a:ext cx="15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oignée de lanc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1331640" y="3357720"/>
            <a:ext cx="718920" cy="142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9:22:06Z</dcterms:created>
  <dc:creator> EREA ajaccio poste 1</dc:creator>
  <dc:description/>
  <dc:language>en-US</dc:language>
  <cp:lastModifiedBy>bourdillon--carlotti</cp:lastModifiedBy>
  <dcterms:modified xsi:type="dcterms:W3CDTF">2009-01-18T05:29:34Z</dcterms:modified>
  <cp:revision>26</cp:revision>
  <dc:subject/>
  <dc:title>Diapositive 1</dc:title>
</cp:coreProperties>
</file>