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8CF-4F5C-4DA2-B532-D5814BDA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CB8-2CE0-4F1F-87ED-694D328E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181-0582-4B78-8E0A-AC191953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63D-54CE-451E-B14A-32BB4E2D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46D-1BC1-4632-A67A-5D429E2E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8A4-1723-4C5C-9232-904C035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DAA-827C-46E9-961D-07BBAC3B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0C0-3470-4BCD-9C25-20B1188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A5F-8CEC-429C-940E-D83237A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D56-B40E-4FF5-8792-6622AF2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DA2-C41B-453D-87EF-6BEBE14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29C-25C2-468C-A926-B19911D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77D8-A65B-4672-87B6-F581C3E43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1483920"/>
            <a:ext cx="64090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1773360"/>
            <a:ext cx="591516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Monotype Corsiva"/>
              </a:rPr>
              <a:t>les pieces du moteur 4 tem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8.32292E-006 C 0.02968 -0.01017 0.06354 -0.00717 0.09409 -0.0111 C 0.16267 -0.03377 0.23298 -0.04927 0.29982 -0.07841 C 0.32656 -0.08998 0.35434 -0.09854 0.37881 -0.11774 C 0.39531 -0.13069 0.40659 -0.14897 0.42239 -0.16308 C 0.43437 -0.18667 0.43836 -0.20194 0.44236 -0.229 C 0.44374 -0.23802 0.44704 -0.2556 0.44704 -0.2556 C 0.44513 -0.27874 0.44704 -0.30395 0.43749 -0.32454 C 0.41961 -0.36409 0.38385 -0.38352 0.35295 -0.39833 C 0.29774 -0.42516 0.24253 -0.42817 0.18472 -0.4358 C 0.12899 -0.43418 0.07343 -0.43303 0.01753 -0.43118 C 0.00763 -0.43095 -0.00226 -0.4321 -0.01181 -0.42956 C -0.10382 -0.40874 -0.19341 -0.36433 -0.27414 -0.30418 C -0.28455 -0.28845 -0.2948 -0.27712 -0.30469 -0.26023 C -0.30747 -0.2556 -0.31285 -0.24635 -0.31285 -0.24635 C -0.31737 -0.22923 -0.32396 -0.21466 -0.32813 -0.19754 C -0.33143 -0.15082 -0.33299 -0.1145 -0.33403 -0.06268 C -0.33369 -0.03562 -0.33455 -0.00855 -0.33316 0.01874 C -0.33195 0.04002 -0.31181 0.07357 -0.30001 0.08768 C -0.2908 0.09878 -0.28264 0.11567 -0.27171 0.12353 C -0.24132 0.14643 -0.19584 0.16401 -0.16112 0.16771 C -0.1257 0.17997 -0.0941 0.18067 -0.0566 0.18159 C 0.02552 0.18807 0.10868 0.19362 0.19062 0.17858 C 0.2026 0.17118 0.21093 0.1617 0.22239 0.1536 C 0.23454 0.1344 0.22499 0.15129 0.23541 0.12515 C 0.25347 0.07912 0.27031 0.03655 0.27656 -0.01572 C 0.27586 -0.02637 0.27552 -0.05065 0.27187 -0.0643 C 0.25902 -0.11265 0.21388 -0.14226 0.18124 -0.15845 C 0.121 -0.18829 0.22916 -0.14226 0.09999 -0.19454 C 0.08072 -0.2024 0.06232 -0.21466 0.04236 -0.21813 C -0.01407 -0.22692 0.02204 -0.22229 -0.06598 -0.22576 C -0.09948 -0.22414 -0.10018 -0.22461 -0.12709 -0.20726 C -0.14202 -0.18667 -0.15278 -0.16678 -0.15886 -0.13948 C -0.17136 0.02476 -0.02605 0.09878 0.07291 0.11752 C 0.0901 0.12075 0.10746 0.12052 0.12482 0.12214 C 0.14913 0.12029 0.28368 0.15823 0.3177 0.08305 C 0.32378 -0.01202 0.27847 -0.09461 0.2177 -0.13948 C 0.13229 -0.2024 0.04878 -0.24982 -0.04705 -0.27596 C -0.08056 -0.28544 -0.12865 -0.28637 -0.16355 -0.28845 C -0.20834 -0.28452 -0.23212 -0.30719 -0.24584 -0.2637 C -0.24011 -0.10617 -0.14115 0.07495 -0.02726 0.12353 C 0.00729 0.13857 0.03854 0.13718 0.07395 0.13949 C 0.14288 0.12839 0.16371 0.14782 0.19652 0.07981 C 0.20104 0.01041 0.16319 -0.05389 0.12361 -0.09414 C 0.01979 -0.20032 -0.11268 -0.22507 -0.23872 -0.23039 C -0.26615 -0.2297 -0.29358 -0.24034 -0.30938 -0.20726 C -0.30747 -0.19384 -0.30782 -0.17973 -0.30365 -0.1677 C -0.29983 -0.15729 -0.29202 -0.14989 -0.28577 -0.1411 C -0.24271 -0.08235 -0.20973 -0.06199 -0.15053 -0.03932 C -0.12344 -0.04186 -0.09636 -0.04279 -0.06962 -0.04718 C -0.06702 -0.04765 -0.06441 -0.05042 -0.06355 -0.05366 C -0.0606 -0.06315 -0.07501 -0.068 -0.07882 -0.06893 C -0.08785 -0.06731 -0.09705 -0.06708 -0.10591 -0.0643 C -0.11042 -0.06291 -0.10799 -0.04418 -0.10695 -0.0377 C -0.10487 -0.02359 -0.09514 -0.01665 -0.08577 -0.01411 C -0.02726 -0.02174 0.03003 -0.03978 0.08819 -0.05204 C 0.11093 -0.06245 0.13368 -0.07286 0.15642 -0.08327 C 0.17326 -0.09067 0.18802 -0.10409 0.20468 -0.11288 C 0.22309 -0.14064 0.21128 -0.17279 0.18472 -0.18505 C 0.11145 -0.21882 0.11579 -0.20957 0.046 -0.22576 C 0.01944 -0.23201 -0.00643 -0.24126 -0.03316 -0.24635 C -0.06198 -0.25121 -0.09115 -0.25375 -0.12014 -0.2556 C -0.14931 -0.25769 -0.17882 -0.25769 -0.20816 -0.25861 C -0.3356 -0.25722 -0.45053 -0.27064 -0.57171 -0.23687 C -0.57865 -0.23293 -0.60973 -0.21628 -0.61754 -0.20726 C -0.62882 -0.19361 -0.63924 -0.16539 -0.64584 -0.14735 C -0.65886 -0.11172 -0.67396 -0.07633 -0.68473 -0.03932 C -0.68386 -0.03192 -0.6849 -0.02382 -0.6823 -0.01734 C -0.68108 -0.01457 -0.67761 -0.01572 -0.67518 -0.01572 C -0.66146 -0.01642 -0.64775 -0.01804 -0.63403 -0.01896 C -0.61685 -0.02012 -0.59948 -0.02058 -0.5823 -0.02197 C -0.529 -0.0259 -0.47605 -0.03446 -0.4224 -0.0377 C -0.36303 -0.04117 -0.24376 -0.04418 -0.24376 -0.04418 C -0.1665 -0.05366 -0.08924 -0.06014 -0.01181 -0.07055 C 0.06249 -0.09437 0.13697 -0.12468 0.20468 -0.17395 C 0.22118 -0.18598 0.23732 -0.19893 0.25399 -0.21027 C 0.26961 -0.22021 0.28611 -0.22738 0.30121 -0.23849 C 0.32881 -0.25815 0.35538 -0.28105 0.38246 -0.30279 C 0.38906 -0.30811 0.43559 -0.3442 0.446 -0.35438 C 0.46319 -0.37103 0.48038 -0.38792 0.49774 -0.40458 C 0.52065 -0.42655 0.49999 -0.40434 0.51649 -0.42632 C 0.51805 -0.42863 0.52031 -0.43048 0.52222 -0.4328 C 0.52482 -0.4358 0.53211 -0.44436 0.52951 -0.44205 C 0.50729 -0.42377 0.49097 -0.39139 0.47291 -0.36687 C 0.4394 -0.3213 0.40937 -0.27203 0.37881 -0.22276 C 0.35104 -0.17811 0.32881 -0.1108 0.30468 -0.06754 C 0.28749 -0.03677 0.26736 -0.00855 0.25295 0.02499 C 0.23454 0.06778 0.22274 0.10757 0.21059 0.1536 C 0.20069 0.19038 0.18888 0.22069 0.18229 0.25862 C 0.17899 0.3227 0.18263 0.24983 0.18003 0.39348 C 0.17968 0.41176 0.17899 0.43489 0.16354 0.44206 C 0.12013 0.43512 0.0842 0.39256 0.046 0.36665 C -0.06112 0.29378 -0.18594 0.23341 -0.27414 0.11914 C -0.29914 0.08675 -0.31042 0.0583 -0.32813 0.02013 C -0.33386 -0.0067 -0.34376 -0.04163 -0.33768 -0.07055 C -0.33091 -0.10409 -0.30869 -0.12815 -0.28941 -0.14897 C -0.23282 -0.21027 -0.16876 -0.24774 -0.10348 -0.29192 C 0.00729000000000001 -0.36594 0.11718 -0.44783 0.23177 -0.51098 C 0.30329 -0.55054 0.38055 -0.57367 0.45538 -0.6005 C 0.49895 -0.59912 0.56909 -0.61415 0.60347 -0.55817 C 0.61458 -0.54036 0.61718 -0.52972 0.62361 -0.50959 C 0.63749 -0.42123 0.63593 -0.32176 0.621 -0.23363 C 0.5993 -0.10432 0.53888 0.03493 0.46006 0.11914 C 0.4401 0.14042 0.41927 0.15985 0.39861 0.17997 C 0.38854 0.19038 0.37881 0.20172 0.36701 0.20843 C 0.32795 0.2304 0.28038 0.24682 0.23767 0.24914 C 0.19982 0.25376 0.17743 0.25816 0.13298 0.24914 C 0.11857 0.24636 0.05781 0.21722 0.03645 0.20843 C -0.00886 0.18946 -0.08941 0.1425 -0.12466 0.09554 C -0.13994 0.07518 -0.15539 0.05483 -0.17049 0.03447 C -0.1882 0.01065 -0.20313 -0.0111 -0.21285 -0.04233 C -0.22066 -0.11774 -0.20608 -0.19824 -0.17639 -0.2637 C -0.16077 -0.2977 -0.13681 -0.32408 -0.11528 -0.35114 C -0.09428 -0.37751 -0.07657 -0.39162 -0.04705 -0.39509 C -0.01459 -0.38861 -0.03143 -0.39486 -0.0165 -0.38098 C -0.00417 -0.30811 -0.02014 -0.22299 -0.02587 -0.14897 C -0.03264 -0.06176 -0.03681 0.02568 -0.04358 0.11289 C -0.04619 0.22207 -0.04132 0.09253 -0.0507 0.1927 C -0.05174 0.20565 -0.05105 0.21883 -0.05174 0.23202 C -0.05365 0.26371 -0.04983 0.33658 -0.08473 0.34329 C -0.09983 0.34074 -0.11945 0.34051 -0.13403 0.33195 C -0.18646 0.30234 -0.2323 0.23341 -0.27292 0.18344 C -0.3224 0.12261 -0.37275 0.06686 -0.38351 -0.02521 C -0.3816 -0.07541 -0.38629 -0.07749 -0.37414 -0.11288 C -0.31424 -0.28915 -0.15348 -0.2637 -0.03525 -0.26972 C 0.07326 -0.27527 0.18194 -0.2718 0.29062 -0.27272 C 0.30694 -0.27411 0.34861 -0.27897 0.36701 -0.27457 C 0.36927 -0.27411 0.36927 -0.26902 0.37065 -0.26671 C 0.37447 -0.24658 0.36736 -0.28198 0.37534 -0.24774 C 0.37725 -0.23849 0.38107 -0.21952 0.38107 -0.21952 C 0.38298 -0.19176 0.38559 -0.16423 0.38715 -0.13647 C 0.38628 0.02499 0.40156 0.18853 0.38107 0.34791 C 0.38055 0.3648 0.38003 0.40482 0.37534 0.4217 C 0.37465 0.42425 0.37222 0.42494 0.37065 0.42633 C 0.3585 0.4372 0.35138 0.43604 0.33645 0.4372 C 0.31927 0.4335 0.30156 0.43258 0.28454 0.42633 C 0.26649 0.41939 0.23177 0.39811 0.23177 0.39811 C 0.16579 0.31807 0.10486 0.23179 0.0401 0.15036 C 0.01406 0.11775 -0.00695 0.08444 -0.03889 0.06269 C -0.04688 0.05714 -0.05452 0.05483 -0.06112 0.04696 C -0.06476 0.04257 -0.07188 0.03285 -0.07188 0.03285 C -0.08403 -0.01503 -0.06094 -0.02613 -0.0448 -0.05806 C -0.02171 -0.1034 -0.03698 -0.07679 -0.00348 -0.12398 C 0.00486 -0.13578 0.01336 -0.14873 0.021 -0.16169 C 0.02482 -0.16817 0.03159 -0.18204 0.03159 -0.18204 C 0.03298 -0.1869 0.03541 -0.19245 0.02586 -0.18505 C 0.02395 -0.18389 0.02361 -0.18066 0.02239 -0.17904 C 0.01562 -0.16978 0.00868 -0.16192 0.00225 -0.1522 C -0.02066 -0.03331 -0.000350000000000003 0.07033 0.06597 0.14874 C 0.09687 0.18506 0.11284 0.20426 0.15173 0.21629 C 0.15937 0.21467 0.1677 0.21467 0.17534 0.21166 C 0.17708 0.21097 0.17656 0.20727 0.1776 0.20519 C 0.18385 0.18784 0.18072 0.19848 0.18472 0.18483 C 0.18281 0.17026 0.18159 0.15545 0.17881 0.14088 C 0.1717 0.10294 0.13142 0.09138 0.10937 0.07842 C 0.05642 0.04673 0.00347 0.01897 -0.05521 0.01412 C -0.07362 0.01527 -0.07639 0.01018 -0.08351 0.02823 C -0.08751 0.0539 -0.06042 0.05043 -0.04844 0.05136 C -0.02032 0.05043 0.00763 0.05275 0.03541 0.04858 C 0.03784 0.04789 0.0368 0.04234 0.03645 0.0391 C 0.03576 0.03216 0.03159 0.02244 0.02829 0.01712 C 0.02395 0.01041 0.00572 -0.00971 0.00451 -0.0111 C -0.00191 -0.0185 -0.00608 -0.02752 -0.01303 -0.03446 C -0.01337 -0.03654 -0.01494 -0.03863 -0.01407 -0.04071 C -0.01146 -0.0488 0.0026 -0.04811 0.00572 -0.04857 C 0.00225 -0.03839 -0.00087 -0.02798 -0.00348 -0.01734 C -0.00608 0.00602 -0.01042 0.03748 -0.02362 0.05483 C -0.02761 0.05321 -0.03143 0.05228 -0.03525 0.0502 C -0.04688 0.04349 -0.04983 0.02221 -0.05174 0.00787 C -0.04653 -0.0259 -0.05226 -0.02058 -0.03316 -0.03145 C -0.000350000000000003 -0.02822 0.01336 -0.02683 0.03888 -0.00161 C 0.04149 0.01203 0.03645 0.01319 0.02708 0.0155 C 0.01874 0.01504 0.01024 0.0162 0.00225 0.01412 C -0.00504 0.01227 -0.02101 -0.00254 -0.02813 -0.00786 C -0.02969 -0.0104 -0.0316 -0.01295 -0.03316 -0.01572 C -0.03959 -0.02984 -0.01997 -0.02937 -0.0165 -0.02984 C 0.00607 -0.02752 0.0243 -0.03169 0.03541 -0.00323 C 0.03038 0.00764 0.02968 0.00602 0.01979 0.00787 C 0.00642 0.00625 -0.00695 0.00694 -0.01997 0.00278 C -0.02327 0.00186 -0.02726 -0.00624 -0.02726 -0.00624 C -0.02674 -0.01087 -0.02726 -0.01596 -0.02587 -0.02035 C -0.02171 -0.03654 -0.000529999999999999 -0.03654 0.0092 -0.0377 C 0.04861 -0.03585 0.0644 -0.0303 0.09652 8.32292E-006 C 0.09809 0.00278 0.10017 0.00579 0.10104 0.00926 C 0.11371 0.04881 0.07343 0.04696 0.05642 0.04858 C 0.04045 0.0465 0.02395 0.04673 0.00833 0.04234 C -0.02257 0.03378 -0.07761 -0.00254 -0.09636 -0.03446 C -0.11042 -0.09807 -0.04584 -0.09391 -0.01754 -0.09715 C 0.05642 -0.09414 0.14618 -0.06384 0.19062 0.02198 C 0.19149 0.02614 0.19305 0.03008 0.19305 0.03447 C 0.19305 0.04881 0.17534 0.05043 0.16944 0.05136 C 0.13506 0.05043 0.06631 0.05275 0.02586 0.04072 C -0.00799 0.03054 -0.04497 0.01088 -0.07639 -0.00786 C -0.10973 -0.02775 -0.1448 -0.04903 -0.15886 -0.09715 C -0.15764 -0.10617 -0.15816 -0.11589 -0.15521 -0.12398 C -0.14862 -0.14226 -0.10903 -0.14989 -0.10001 -0.1522 C -0.06997 -0.15082 -0.03924 -0.15498 -0.00955 -0.14735 C 0.01527 -0.1411 0.03732 -0.12259 0.06128 -0.11126 C 0.10486 -0.09044 0.17656 -0.06291 0.21892 -0.03446 C 0.25451 -0.01064 0.32239 0.04534 0.32239 0.04534 C 0.32499 0.05205 0.33055 0.05807 0.33055 0.0657 C 0.33055 0.093 0.31857 0.09045 0.30468 0.09554 C 0.27013 0.09346 0.23541 0.09623 0.20121 0.08929 C 0.17534 0.08397 0.15069 0.07079 0.12586 0.05922 C 0.07291 0.03493 0.01979 0.0118 -0.03178 -0.01734 C -0.20747 -0.11635 0.01371 0.01111 -0.14584 -0.08952 C -0.15764 -0.09692 -0.17032 -0.10178 -0.1823 -0.10825 C -0.18594 -0.1101 -0.19671 -0.11496 -0.19289 -0.1145 C -0.12327 -0.10501 -0.06129 -0.06847 0.00451 -0.04071 C 0.05434 -0.01989 0.10434 -0.00115 0.15416 0.01874 C 0.17239 0.02614 0.19027 0.03632 0.20833 0.04534 C 0.20989 0.04627 0.21475 0.04881 0.21284 0.04858 C 0.17604 0.04349 0.1394 0.0347 0.10243 0.02823 C -0.00122 -0.01549 -0.09202 -0.03886 -0.20001 -0.04557 C -0.21771 -0.0451 -0.23612 -0.05019 -0.25296 -0.04418 C -0.2573 -0.04233 -0.24983 -0.03284 -0.24705 -0.02822 C -0.24185 -0.01989 -0.23612 -0.0111 -0.22935 -0.00508 C -0.2165 0.00718 -0.20226 0.01666 -0.1882 0.02661 C -0.13889 0.06061 -0.1231 0.06963 -0.07049 0.09091 C -0.0257 0.10873 0.02326 0.11682 0.06701 0.13949 C 0.04201 0.14666 0.0052 0.13024 -0.01876 0.12515 C -0.04705 0.1196 -0.05452 0.1196 -0.07882 0.11752 C -0.08282 0.11798 -0.08924 0.11428 -0.09063 0.11914 C -0.09202 0.12353 -0.08542 0.12607 -0.0823 0.12839 C -0.06615 0.14065 -0.0507 0.15476 -0.03316 0.16285 C 0.04218 0.19778 0.00225 0.1846 0.08715 0.20056 C 0.11475 0.19987 0.14288 0.20218 0.17048 0.19894 C 0.17569 0.19848 0.16128 0.19455 0.15642 0.1927 C 0.13142 0.18298 0.10624 0.17396 0.08124 0.16424 C 0.05243 0.1536 0.01527 0.15545 -0.01528 0.15198 C 0.01666 0.14851 0.0401 0.14736 0.06822 0.12839 C 0.07586 0.11312 0.07621 0.10086 0.06822 0.08305 C 0.06059 0.06616 0.05104 0.05182 0.04236 0.03609 C 0.03454 0.02198 0.02447 0.01227 0.01874 -0.00323 C 0.01944 -0.00786 0.02065 -0.01665 0.02239 -0.02197 C 0.02291 -0.02405 0.02395 -0.02613 0.02482 -0.02822 C 0.02517 -0.02984 0.02586 -0.03307 0.02586 -0.0330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056360" cy="50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1403280" y="4076640"/>
            <a:ext cx="1008000" cy="1944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050920" y="620280"/>
            <a:ext cx="936720" cy="151308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580000" y="692280"/>
            <a:ext cx="1152720" cy="201600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732720" y="5013360"/>
            <a:ext cx="360360" cy="129528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372360" y="2205000"/>
            <a:ext cx="1655640" cy="1728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643280" y="836640"/>
            <a:ext cx="144720" cy="1512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89000"/>
            <a:ext cx="201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JOINT DE COUVE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6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BLOC CYL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602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AI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1700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JOINT DE CU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623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CU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COUVE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069920"/>
            <a:ext cx="6264360" cy="4735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1187280" y="4723920"/>
            <a:ext cx="1079640" cy="122580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43280" y="4797000"/>
            <a:ext cx="1079280" cy="136836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291280" y="4724280"/>
            <a:ext cx="793440" cy="144144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802560" y="4652640"/>
            <a:ext cx="1225440" cy="129708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011640" y="765000"/>
            <a:ext cx="431640" cy="165600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994200" y="907920"/>
            <a:ext cx="722160" cy="936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115640" y="907920"/>
            <a:ext cx="3024360" cy="151128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SOUP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609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RESSORT DE SOUP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6093000"/>
            <a:ext cx="151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ARRET DE SOUP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950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POUSS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2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C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PIGNON DE L’ARBRE A C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L’ARBRE à C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7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86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3564000" y="4581000"/>
            <a:ext cx="142920" cy="158436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476000" y="1052280"/>
            <a:ext cx="647640" cy="115236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32720" y="2636640"/>
            <a:ext cx="1008000" cy="14436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92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FILTRE A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616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CARBU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2492280"/>
            <a:ext cx="16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RESER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D’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68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flipV="1">
            <a:off x="3132000" y="907920"/>
            <a:ext cx="648000" cy="1152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573360"/>
            <a:ext cx="790560" cy="2376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35120" y="189000"/>
            <a:ext cx="32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GRILLE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POT D’E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106992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5651280" y="4868640"/>
            <a:ext cx="2160360" cy="14436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059280" y="907920"/>
            <a:ext cx="504720" cy="1152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75420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POIGN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LAN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1200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LAN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cb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d55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337440" cy="478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48360" y="4653000"/>
            <a:ext cx="1728720" cy="79200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258920" y="1052640"/>
            <a:ext cx="2449440" cy="180000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635280" y="907920"/>
            <a:ext cx="865440" cy="1152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7628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ANTI-PARA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4936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d55f"/>
                </a:solidFill>
                <a:latin typeface="Arial"/>
              </a:rPr>
              <a:t>BOBINE D’</a:t>
            </a:r>
            <a:r>
              <a:rPr b="0" lang="fr-FR" sz="2000" spc="-1" strike="noStrike">
                <a:solidFill>
                  <a:srgbClr val="0fd55f"/>
                </a:solidFill>
                <a:latin typeface="Arial"/>
              </a:rPr>
              <a:t>ALLU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558972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VOLANT MAGE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12000" y="3500280"/>
            <a:ext cx="2016000" cy="720720"/>
          </a:xfrm>
          <a:prstGeom prst="line">
            <a:avLst/>
          </a:prstGeom>
          <a:ln w="57240">
            <a:solidFill>
              <a:srgbClr val="0fd55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28000" y="3284640"/>
            <a:ext cx="13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d55f"/>
                </a:solidFill>
                <a:latin typeface="Arial"/>
              </a:rPr>
              <a:t>AI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8360" y="1125360"/>
            <a:ext cx="4572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MATE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716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GERMY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551664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MMP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7263 C 0.0217 -0.08351 0.03507 -0.08952 0.04444 -0.08975 C 0.11979 -0.0916 0.19496 -0.09183 0.27031 -0.09299 C 0.29323 -0.09692 0.31406 -0.0953 0.33628 -0.10386 C 0.34427 -0.11057 0.3526 -0.11404 0.35972 -0.12283 C 0.36302 -0.12676 0.36927 -0.13532 0.36927 -0.13532 C 0.371 -0.14157 0.37239 -0.14805 0.37396 -0.15429 C 0.37187 -0.21999 0.37743 -0.17765 0.37031 -0.19963 C 0.36736 -0.20865 0.37187 -0.19986 0.36684 -0.21212 C 0.36545 -0.21536 0.36215 -0.22161 0.36215 -0.22161 C 0.36024 -0.23178 0.35573 -0.23942 0.34913 -0.24497 C 0.33993 -0.26047 0.32587 -0.26926 0.31267 -0.27782 C 0.30746 -0.28105 0.30139 -0.28082 0.29618 -0.28429 C 0.28229 -0.29355 0.29184 -0.28869 0.27986 -0.29193 C 0.27639 -0.29285 0.27291 -0.29447 0.26927 -0.29517 C 0.26111 -0.29678 0.24444 -0.2984 0.24444 -0.2984 C 0.2118 -0.3102 0.16805 -0.30696 0.13628 -0.30766 C 0.0842 -0.30881 -0.02014 -0.31089 -0.02014 -0.31089 C -0.04462 -0.31205 -0.06771 -0.31506 -0.09202 -0.31714 C -0.14879 -0.31668 -0.20573 -0.31552 -0.2625 -0.31552 C -0.28872 -0.31552 -0.29705 -0.31275 -0.31545 -0.32015 C -0.31771 -0.32223 -0.32049 -0.32269 -0.32257 -0.32501 C -0.32361 -0.32616 -0.32396 -0.32824 -0.32483 -0.32963 C -0.33299 -0.34235 -0.34115 -0.35461 -0.34601 -0.37034 C -0.35018 -0.38376 -0.35174 -0.3981 -0.3566 -0.41106 C -0.35868 -0.43627 -0.36198 -0.46033 -0.36615 -0.48485 C -0.36736 -0.50197 -0.3684 -0.51885 -0.37309 -0.53504 C -0.375 -0.56026 -0.38038 -0.5827 -0.3849 -0.60722 C -0.38438 -0.61809 -0.38455 -0.63798 -0.38021 -0.64955 C -0.36563 -0.68772 -0.34045 -0.69905 -0.31198 -0.709 C -0.30868 -0.71015 -0.3059 -0.71386 -0.30261 -0.71524 C -0.29184 -0.7201 -0.28056 -0.72218 -0.26962 -0.72635 C -0.26042 -0.72982 -0.2507 -0.72843 -0.24132 -0.72935 C -0.21979 -0.73167 -0.19827 -0.73051 -0.17674 -0.73097 C -0.03386 -0.72982 0.10868 -0.7275 0.25156 -0.72635 C 0.27031 -0.72496 0.28941 -0.72635 0.30798 -0.72149 C 0.31892 -0.71871 0.32812 -0.709 0.33854 -0.70437 C 0.3441 -0.69489 0.3526 -0.68934 0.35746 -0.67916 C 0.36041 -0.67291 0.35989 -0.67499 0.36215 -0.66667 C 0.36302 -0.66343 0.36458 -0.65718 0.36458 -0.65718 C 0.36823 -0.61832 0.37014 -0.57599 0.36458 -0.53805 C 0.36389 -0.53273 0.36198 -0.51608 0.36094 -0.51307 C 0.3559 -0.49734 0.35087 -0.48184 0.34566 -0.46611 C 0.33958 -0.44784 0.33524 -0.43511 0.32448 -0.42054 C 0.31753 -0.41129 0.32413 -0.41476 0.31857 -0.40481 C 0.31736 -0.40273 0.31528 -0.40204 0.31389 -0.40042 C 0.3059 -0.38954 0.29982 -0.37659 0.29045 -0.36734 C 0.28767 -0.36179 0.28576 -0.35993 0.2809 -0.35785 C 0.27552 -0.34698 0.26528 -0.34074 0.25625 -0.33588 C 0.22118 -0.3368 0.18837 -0.33842 0.15399 -0.34374 C 0.14271 -0.34883 0.13298 -0.35785 0.12222 -0.3641 C 0.1059 -0.37381 0.08923 -0.38353 0.07153 -0.38769 C 0.06493 -0.38931 0.05712 -0.39139 0.05035 -0.39232 C 0.03975 -0.39371 0.01857 -0.39556 0.01857 -0.39556 C -0.00052 -0.39995 -0.01511 -0.4018 -0.03542 -0.4018 E">
                                      <p:cBhvr>
                                        <p:cTn id="66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36:24Z</dcterms:created>
  <dc:creator> EREA ajaccio poste 1</dc:creator>
  <dc:description/>
  <dc:language>en-US</dc:language>
  <cp:lastModifiedBy>EREA ajaccio poste 2</cp:lastModifiedBy>
  <cp:lastPrinted>2008-09-30T13:36:25Z</cp:lastPrinted>
  <dcterms:modified xsi:type="dcterms:W3CDTF">2008-11-13T14:40:30Z</dcterms:modified>
  <cp:revision>8</cp:revision>
  <dc:subject/>
  <dc:title>Diapositive 1</dc:title>
</cp:coreProperties>
</file>