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20D-C938-48A2-845D-8D881FE1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3F1-FFCB-4D79-82F6-3A42112C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2E7-53F6-40D6-9942-6E307237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564-C9E0-43E8-866B-44C2FA62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CFF26-AABF-4AD0-9F1C-C13F8CC0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8505F-2E41-4248-9516-0B48D309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979FD-09EA-42D3-9CB5-F88277DA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3E464-8CC1-4C3D-8686-87A0FBE2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7DE8A-7033-429A-9F8D-AB08BDB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03668-8984-4BCC-92C0-DB0B9540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DC286-72E7-4D18-9C8C-646847CC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647-2C25-4670-B436-D406B9B9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14CD7-E529-4671-8E0F-A5392B5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B8AB4-D930-4858-B6B3-4058374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3013F-1F73-43F0-B4CF-0C6157AA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A0EA2-9755-4620-97DB-F8DFFF2E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E4595-178C-4462-9B54-630F19A9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628-439D-4955-B4ED-67FD3928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67B-FCBF-4AA5-B384-C1C5D18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209-E2E2-48A4-9F9F-59077FD8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574-EE14-4A24-B22A-1803CDB9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5CE-B1E7-400D-9E0D-F43EA53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C21-4137-48B3-A290-3B61126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24B-EB71-4C40-B87E-22499CBB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994-CC83-4187-A329-97877DF89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7E23-FF34-4DB5-BBD1-33B426096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260280"/>
            <a:ext cx="741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ORDRE DE DEMONTAGE des pièces du moteur 4 temp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54120" y="900000"/>
            <a:ext cx="6035760" cy="4523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19280" y="522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la Cula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5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2133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 Joint de cula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041720" cy="3004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71640" y="1125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le Couve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30560" y="1419120"/>
            <a:ext cx="4681440" cy="348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4437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la Bi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54120" y="930240"/>
            <a:ext cx="6035760" cy="4462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404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90880" y="40766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e Pis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57340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es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7840" y="582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75120" y="575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867280" y="4365720"/>
            <a:ext cx="8654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924360" y="530064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268360" y="3429000"/>
            <a:ext cx="50328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29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’axe de pis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54120" y="912960"/>
            <a:ext cx="6035760" cy="449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486900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Le Pouss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47640" y="893880"/>
            <a:ext cx="6046920" cy="4535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16360" y="1989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Le Vilebrequ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363640" y="2421000"/>
            <a:ext cx="287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5950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 pignon de vilebrequ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916360" y="4724280"/>
            <a:ext cx="50328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495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1989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L’arbre à c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587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 pignon de l’arbre à c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132000" y="2565360"/>
            <a:ext cx="432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19640" y="5373360"/>
            <a:ext cx="865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30360" y="1600200"/>
            <a:ext cx="6083280" cy="4495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 Soup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609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e ressort de soup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76360" y="537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a clav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5084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64000" y="2492280"/>
            <a:ext cx="863640" cy="1224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355640" y="573372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01840" y="488880"/>
            <a:ext cx="6340320" cy="5346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63640" y="5157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e bloc cylind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8560" y="1082520"/>
            <a:ext cx="5546880" cy="415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124000" y="4221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a Bou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050920" y="2781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KARIM CAP 1MMP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981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Son professeur de MMPJ   : Mr  Bourdil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050920" y="537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Filtre à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4120" y="900000"/>
            <a:ext cx="60357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4120" y="900000"/>
            <a:ext cx="6035760" cy="4523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19280" y="4724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e Réservoir d’ ess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flipV="1" rot="10735800">
            <a:off x="3059280" y="522900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e Carburat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2343240"/>
            <a:ext cx="40384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54120" y="900000"/>
            <a:ext cx="6035760" cy="4523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4581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e Lanc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54120" y="900000"/>
            <a:ext cx="6035760" cy="4523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51280" y="5013360"/>
            <a:ext cx="36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 bobine allu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76720" y="4005360"/>
            <a:ext cx="3589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54120" y="900000"/>
            <a:ext cx="6035760" cy="4523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76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e Volant magné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5300640"/>
            <a:ext cx="17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L’aim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11280" y="4868640"/>
            <a:ext cx="865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1125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2343240"/>
            <a:ext cx="4038480" cy="30099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2343240"/>
            <a:ext cx="4038480" cy="3009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03640" y="501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le Pot d’ échapp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02:39Z</dcterms:created>
  <dc:creator>admin</dc:creator>
  <dc:description/>
  <dc:language>en-US</dc:language>
  <cp:lastModifiedBy>bourdillon--carlotti</cp:lastModifiedBy>
  <dcterms:modified xsi:type="dcterms:W3CDTF">2009-01-20T09:28:44Z</dcterms:modified>
  <cp:revision>20</cp:revision>
  <dc:subject/>
  <dc:title>Diapositive 1</dc:title>
</cp:coreProperties>
</file>