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8D1F-BF18-4CA1-9BCB-2E4708BA07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913-7CA5-4CFE-95A3-F67D2AAD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233-B0F7-45E9-8575-17FD1C6D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198-5F2F-428A-AF6E-11B68DFD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E13-D823-4B11-BC8A-0BB33929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6662-AA7D-40D9-B71C-C98E65BF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CFCC-E209-4FF5-9F0F-6F8B17CA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2A8E-43C9-43EE-844E-A5E3E10D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5039-96AE-4EAE-A559-D886C267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2926-C432-49E5-8A9D-59CA138E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24C2-E6EF-4EF3-A2B9-28D5CD34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3BAB-6815-4C65-9588-B50B9B13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8DC-E319-4954-957A-1D14CA97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4FEC-2007-40C1-9495-3E5380AD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B387-1730-44A2-90BD-A5E6EFA2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D6DE-557A-459B-ADB6-2E6385BA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5817-934E-4AB0-8A94-8552B4D4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A1B5-C6C8-4EDD-8CB1-1291943B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E4C-51BE-48BD-9446-A4E9D41A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7074-99BD-459E-A9B3-7F86B7EE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F02-696D-4B8A-8A2D-52019397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CBB-5141-44D6-960F-FD3BD93A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983-EF0A-4E34-A987-87442A6F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27F-09A4-4627-A29D-B1DEFD5E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ACD-FF65-4D84-887F-A7ED49DC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5CEE-CD8C-44D9-A610-E3C8633E68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E089-6855-404A-BF57-EF0F528BE0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Les pièces moteur thermique  à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4 temp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5013360"/>
            <a:ext cx="7272360" cy="947160"/>
          </a:xfrm>
          <a:prstGeom prst="rect">
            <a:avLst/>
          </a:prstGeom>
          <a:solidFill>
            <a:srgbClr val="9966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classe de Monsieur BOURDILLON CAP 1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60600" y="1600200"/>
            <a:ext cx="6022800" cy="45306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e culass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2133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La bou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48360" y="2492280"/>
            <a:ext cx="1295280" cy="10810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08720" y="3573360"/>
            <a:ext cx="2376360" cy="935280"/>
          </a:xfrm>
          <a:prstGeom prst="line">
            <a:avLst/>
          </a:prstGeom>
          <a:ln w="936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48360" y="31417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d71"/>
                </a:solidFill>
                <a:latin typeface="Tahoma"/>
              </a:rPr>
              <a:t>La cul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91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 pist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91480" y="25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88000" y="1989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  <a:ea typeface="Arial"/>
              </a:rPr>
              <a:t>La bie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219280" y="2349360"/>
            <a:ext cx="1584360" cy="1366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26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Les 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  <a:ea typeface="Arial"/>
              </a:rPr>
              <a:t>seg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5280" y="2852640"/>
            <a:ext cx="1441440" cy="6476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40360" y="1844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L’axe du 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  <a:ea typeface="Arial"/>
              </a:rPr>
              <a:t>pis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780000" y="2276640"/>
            <a:ext cx="1008000" cy="115236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360" y="1628640"/>
            <a:ext cx="1150920" cy="11527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8000" y="1268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d71"/>
                </a:solidFill>
                <a:latin typeface="Tahoma"/>
              </a:rPr>
              <a:t>Le pis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91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Un poussoir,une soupape,et un ressort de soupap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19280" y="2421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  <a:ea typeface="Arial"/>
              </a:rPr>
              <a:t>Un pousso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8000" y="2852640"/>
            <a:ext cx="1511640" cy="10810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80000" y="4797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Une soupap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211640" y="4076640"/>
            <a:ext cx="504720" cy="720720"/>
          </a:xfrm>
          <a:prstGeom prst="line">
            <a:avLst/>
          </a:prstGeom>
          <a:ln w="936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00720" y="4221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Un ressort de soupa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84720" y="4076640"/>
            <a:ext cx="216000" cy="432000"/>
          </a:xfrm>
          <a:prstGeom prst="line">
            <a:avLst/>
          </a:prstGeom>
          <a:ln w="936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035760" cy="4529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33200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La bobine d’allum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5363640" y="5229000"/>
            <a:ext cx="1729080" cy="36036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77080" y="1484280"/>
            <a:ext cx="16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a500"/>
                </a:solidFill>
                <a:latin typeface="Tahoma"/>
              </a:rPr>
              <a:t>La bobine d’allu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643280" y="1699920"/>
            <a:ext cx="2089440" cy="865080"/>
          </a:xfrm>
          <a:prstGeom prst="line">
            <a:avLst/>
          </a:prstGeom>
          <a:ln w="936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04000" y="1557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56360" y="5373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bd71"/>
                </a:solidFill>
                <a:latin typeface="Tahoma"/>
              </a:rPr>
              <a:t>Antipara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e pipe d’admi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03576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 bloc cylindr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96360" y="328464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035760" cy="45291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 lanceu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1989000"/>
            <a:ext cx="38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La poignée du lanceu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3284640"/>
            <a:ext cx="935280" cy="93636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 pot d’échappe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91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47640" y="692280"/>
            <a:ext cx="60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Un carburateu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971280" y="3284640"/>
            <a:ext cx="2592360" cy="865080"/>
          </a:xfrm>
          <a:prstGeom prst="line">
            <a:avLst/>
          </a:prstGeom>
          <a:ln w="936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14972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a500"/>
                </a:solidFill>
                <a:latin typeface="Tahoma"/>
              </a:rPr>
              <a:t>Le robine</a:t>
            </a:r>
            <a:r>
              <a:rPr b="0" lang="en-US" sz="1800" spc="-1" strike="noStrike">
                <a:solidFill>
                  <a:srgbClr val="cca5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a500"/>
                </a:solidFill>
                <a:latin typeface="Tahoma"/>
              </a:rPr>
              <a:t>d’ess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635280" y="4005360"/>
            <a:ext cx="432000" cy="2016000"/>
          </a:xfrm>
          <a:prstGeom prst="line">
            <a:avLst/>
          </a:prstGeom>
          <a:ln w="936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602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Tahoma"/>
              </a:rPr>
              <a:t>Une durit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91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 volant magnétiqu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84720" y="4076640"/>
            <a:ext cx="863640" cy="73080"/>
          </a:xfrm>
          <a:prstGeom prst="line">
            <a:avLst/>
          </a:prstGeom>
          <a:ln w="936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20000" y="3716280"/>
            <a:ext cx="21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a500"/>
                </a:solidFill>
                <a:latin typeface="Tahoma"/>
              </a:rPr>
              <a:t>Les ailettes pour refroidi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835280" y="3068280"/>
            <a:ext cx="1295280" cy="14436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3213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a500"/>
                </a:solidFill>
                <a:latin typeface="Tahoma"/>
              </a:rPr>
              <a:t>L’aim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 joint de culass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68360" y="1628640"/>
            <a:ext cx="43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90792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40464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32000" y="404640"/>
            <a:ext cx="60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58920" y="69228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500"/>
                </a:solidFill>
                <a:latin typeface="Arial"/>
                <a:ea typeface="Arial"/>
              </a:rPr>
              <a:t>Le couvercle</a:t>
            </a:r>
            <a:r>
              <a:rPr b="0" lang="en-US" sz="3200" spc="-1" strike="noStrike">
                <a:solidFill>
                  <a:srgbClr val="cca5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03576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91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 arbre à ca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300720" y="3429000"/>
            <a:ext cx="1295640" cy="720720"/>
          </a:xfrm>
          <a:prstGeom prst="line">
            <a:avLst/>
          </a:prstGeom>
          <a:ln w="936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67640" y="306864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d71"/>
                </a:solidFill>
                <a:latin typeface="Tahoma"/>
              </a:rPr>
              <a:t>Arbre à c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2637000"/>
            <a:ext cx="2232000" cy="2156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20500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d71"/>
                </a:solidFill>
                <a:latin typeface="Tahoma"/>
              </a:rPr>
              <a:t>Le pignon d’arbre à c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91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 vilebrequi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00720" y="465300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43640" y="47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  <a:ea typeface="Arial"/>
              </a:rPr>
              <a:t>Un pignon du vilebrequ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866920" y="4797360"/>
            <a:ext cx="1513080" cy="2872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716360" y="2492280"/>
            <a:ext cx="2664000" cy="7225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872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a500"/>
                </a:solidFill>
                <a:latin typeface="Tahoma"/>
              </a:rPr>
              <a:t>Le vilebrequ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6:31:00Z</dcterms:created>
  <dc:creator>admin</dc:creator>
  <dc:description/>
  <dc:language>en-US</dc:language>
  <cp:lastModifiedBy>bourdillon--carlotti</cp:lastModifiedBy>
  <dcterms:modified xsi:type="dcterms:W3CDTF">2009-01-20T09:28:33Z</dcterms:modified>
  <cp:revision>23</cp:revision>
  <dc:subject/>
  <dc:title>Diapositive 1</dc:title>
</cp:coreProperties>
</file>