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96BC-D5A8-4917-A199-394B70040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D843-C083-4007-B29E-DE1D092F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E95C-A5FD-4EBD-AD31-416F7621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3F87-A72D-4874-8FE2-56F7CAC3F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63F4-7D37-43AE-BAFA-6CA42A51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0B8D-C8A0-4CB0-B108-07EC5E55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7264-CADE-437E-926A-E2D6D7A4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755F-BD67-445B-B761-A601C2E4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E983-C78C-40ED-A7CE-969997DE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10B1-A8EF-43AD-B20B-22E3EB08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3A6F-B90B-4EFA-894F-4D8068FD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2851-1B4D-4171-B40E-0F36190A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0E5A-3E0F-4010-A7E8-EE5F960C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695A-B029-4E8E-A6B1-3B192EAD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22E7-9E5D-454D-B75C-04F79974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CD1F-4512-4643-80ED-17C8FDF77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754D-DE5A-485A-B1F9-D9E284E27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959F-C4B5-4E84-B51B-6B19E664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3480-CAA7-44DC-A39E-F16D316A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D522-8A76-446E-9B61-AFBB800E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CE28-05F9-4F06-BD9F-AB6D09E4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CE70-EB0E-4523-8949-9B04DBF7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97D7-B29D-45D7-B2A3-3F2165AA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3AD5-91A6-4F35-98C1-0FF2B8E7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f237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3e7"/>
                    </a:gs>
                    <a:gs pos="100000">
                      <a:srgbClr val="9f237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03e7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03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B22F-8AFA-4D25-8110-0C56706E625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f237f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9f237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03e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03e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B820-9016-4C5E-8D3B-3FB429EE4F7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816200" y="1144440"/>
            <a:ext cx="606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84360" y="836640"/>
            <a:ext cx="7391160" cy="471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Les pièces du moteur 4 temps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4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1816200" y="1131840"/>
            <a:ext cx="5510160" cy="41338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203640" y="69228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3e7"/>
                </a:solidFill>
                <a:latin typeface="Arial"/>
              </a:rPr>
              <a:t>Le joint d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3e7"/>
                </a:solidFill>
                <a:latin typeface="Arial"/>
              </a:rPr>
              <a:t>culass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995640" y="1700280"/>
            <a:ext cx="289080" cy="50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284720" y="1197000"/>
            <a:ext cx="216000" cy="576360"/>
          </a:xfrm>
          <a:prstGeom prst="line">
            <a:avLst/>
          </a:prstGeom>
          <a:ln w="9360">
            <a:solidFill>
              <a:srgbClr val="ff03e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1041480" y="552600"/>
            <a:ext cx="7059600" cy="5290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3924360" y="404640"/>
            <a:ext cx="32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3e7"/>
                </a:solidFill>
                <a:latin typeface="Arial"/>
              </a:rPr>
              <a:t>Le filtre à air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003640" y="765000"/>
            <a:ext cx="505080" cy="863640"/>
          </a:xfrm>
          <a:prstGeom prst="line">
            <a:avLst/>
          </a:prstGeom>
          <a:ln w="9360">
            <a:solidFill>
              <a:srgbClr val="ff03e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888840" y="301680"/>
            <a:ext cx="7366320" cy="5794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3348000" y="260280"/>
            <a:ext cx="25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700360" y="-171360"/>
            <a:ext cx="54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3e7"/>
                </a:solidFill>
                <a:latin typeface="Arial"/>
              </a:rPr>
              <a:t>La</a:t>
            </a:r>
            <a:r>
              <a:rPr b="0" lang="en-US" sz="6600" spc="-1" strike="noStrike">
                <a:solidFill>
                  <a:srgbClr val="ff03e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3e7"/>
                </a:solidFill>
                <a:latin typeface="Arial"/>
              </a:rPr>
              <a:t>culass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067280" y="836640"/>
            <a:ext cx="1152360" cy="1944720"/>
          </a:xfrm>
          <a:prstGeom prst="line">
            <a:avLst/>
          </a:prstGeom>
          <a:ln w="9360">
            <a:solidFill>
              <a:srgbClr val="ff03e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716360" y="1268280"/>
            <a:ext cx="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4648320" y="2662200"/>
            <a:ext cx="4100400" cy="29606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4859280" y="2276640"/>
            <a:ext cx="936720" cy="934920"/>
          </a:xfrm>
          <a:prstGeom prst="line">
            <a:avLst/>
          </a:prstGeom>
          <a:ln w="9360">
            <a:solidFill>
              <a:srgbClr val="ff03e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324000" y="2662200"/>
            <a:ext cx="4171680" cy="30132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3492360" y="177336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3e7"/>
                </a:solidFill>
                <a:latin typeface="Arial"/>
              </a:rPr>
              <a:t>L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3e7"/>
                </a:solidFill>
                <a:latin typeface="Arial"/>
              </a:rPr>
              <a:t>couvercl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3492360" y="2349360"/>
            <a:ext cx="432000" cy="1008360"/>
          </a:xfrm>
          <a:prstGeom prst="line">
            <a:avLst/>
          </a:prstGeom>
          <a:ln w="9360">
            <a:solidFill>
              <a:srgbClr val="ff03e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888840" y="301680"/>
            <a:ext cx="7366320" cy="57942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900000" y="126828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3e7"/>
                </a:solidFill>
                <a:latin typeface="Arial"/>
              </a:rPr>
              <a:t>Le bloc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3e7"/>
                </a:solidFill>
                <a:latin typeface="Arial"/>
              </a:rPr>
              <a:t>cylindr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627280" y="1557360"/>
            <a:ext cx="649440" cy="863640"/>
          </a:xfrm>
          <a:prstGeom prst="line">
            <a:avLst/>
          </a:prstGeom>
          <a:ln w="9360">
            <a:solidFill>
              <a:srgbClr val="ff03e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888840" y="301680"/>
            <a:ext cx="7366320" cy="57942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2843280" y="404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3e7"/>
                </a:solidFill>
                <a:latin typeface="Arial"/>
              </a:rPr>
              <a:t>le volant magnétiqu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356000" y="836640"/>
            <a:ext cx="144720" cy="1512720"/>
          </a:xfrm>
          <a:prstGeom prst="line">
            <a:avLst/>
          </a:prstGeom>
          <a:ln w="9360">
            <a:solidFill>
              <a:srgbClr val="ff03e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26920" y="537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3e7"/>
                </a:solidFill>
                <a:latin typeface="Arial"/>
              </a:rPr>
              <a:t>L’aiman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1692360" y="4653000"/>
            <a:ext cx="792000" cy="720720"/>
          </a:xfrm>
          <a:prstGeom prst="line">
            <a:avLst/>
          </a:prstGeom>
          <a:ln w="9360">
            <a:solidFill>
              <a:srgbClr val="ff03e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901800" y="309600"/>
            <a:ext cx="7338960" cy="57783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1979640" y="620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3e7"/>
                </a:solidFill>
                <a:latin typeface="Arial"/>
              </a:rPr>
              <a:t>La bobin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3e7"/>
                </a:solidFill>
                <a:latin typeface="Arial"/>
              </a:rPr>
              <a:t>d’allumag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356000" y="1125360"/>
            <a:ext cx="1008000" cy="1582920"/>
          </a:xfrm>
          <a:prstGeom prst="line">
            <a:avLst/>
          </a:prstGeom>
          <a:ln w="9360">
            <a:solidFill>
              <a:srgbClr val="ff03e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2050920" y="1197000"/>
            <a:ext cx="5121360" cy="40179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2987640" y="1700280"/>
            <a:ext cx="35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987640" y="1341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3e7"/>
                </a:solidFill>
                <a:latin typeface="Arial"/>
              </a:rPr>
              <a:t>Le pot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3e7"/>
                </a:solidFill>
                <a:latin typeface="Arial"/>
              </a:rPr>
              <a:t>d’échappemen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724360" y="1700280"/>
            <a:ext cx="287640" cy="1368360"/>
          </a:xfrm>
          <a:prstGeom prst="line">
            <a:avLst/>
          </a:prstGeom>
          <a:ln w="9360">
            <a:solidFill>
              <a:srgbClr val="ff03e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773280" y="581040"/>
            <a:ext cx="7596000" cy="56944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826920" y="69228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3e7"/>
                </a:solidFill>
                <a:latin typeface="Arial"/>
              </a:rPr>
              <a:t>Le  réservoir d’essenc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916360" y="1197000"/>
            <a:ext cx="504720" cy="1368360"/>
          </a:xfrm>
          <a:prstGeom prst="line">
            <a:avLst/>
          </a:prstGeom>
          <a:ln w="9360">
            <a:solidFill>
              <a:srgbClr val="ff03e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1554120" y="936720"/>
            <a:ext cx="6035760" cy="45226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4716360" y="134136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3e7"/>
                </a:solidFill>
                <a:latin typeface="Arial"/>
              </a:rPr>
              <a:t>Le poussoir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4716360" y="1844640"/>
            <a:ext cx="503280" cy="1152720"/>
          </a:xfrm>
          <a:prstGeom prst="line">
            <a:avLst/>
          </a:prstGeom>
          <a:ln w="9360">
            <a:solidFill>
              <a:srgbClr val="ff03e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378080" y="793800"/>
            <a:ext cx="6387840" cy="48099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4335480" y="928800"/>
            <a:ext cx="1749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427640" y="6206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3e7"/>
                </a:solidFill>
                <a:latin typeface="Arial"/>
              </a:rPr>
              <a:t>Le lanceur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076720" y="1197000"/>
            <a:ext cx="142920" cy="1511280"/>
          </a:xfrm>
          <a:prstGeom prst="line">
            <a:avLst/>
          </a:prstGeom>
          <a:ln w="9360">
            <a:solidFill>
              <a:srgbClr val="ff03e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5372280" cy="38037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3059280" y="836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3e7"/>
                </a:solidFill>
                <a:latin typeface="Arial"/>
              </a:rPr>
              <a:t>Le pisto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116000" y="1197000"/>
            <a:ext cx="1871640" cy="2519280"/>
          </a:xfrm>
          <a:prstGeom prst="line">
            <a:avLst/>
          </a:prstGeom>
          <a:ln w="9360">
            <a:solidFill>
              <a:srgbClr val="ff03e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76500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3e7"/>
                </a:solidFill>
                <a:latin typeface="Arial"/>
              </a:rPr>
              <a:t>L’axe d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3e7"/>
                </a:solidFill>
                <a:latin typeface="Arial"/>
              </a:rPr>
              <a:t>pisto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87280" y="573408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187280" y="5805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3e7"/>
                </a:solidFill>
                <a:latin typeface="Arial"/>
              </a:rPr>
              <a:t>Les segment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2050920" y="4941360"/>
            <a:ext cx="1800360" cy="1008360"/>
          </a:xfrm>
          <a:prstGeom prst="line">
            <a:avLst/>
          </a:prstGeom>
          <a:ln w="9360">
            <a:solidFill>
              <a:srgbClr val="ff03e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924360" y="1268280"/>
            <a:ext cx="360360" cy="1224000"/>
          </a:xfrm>
          <a:prstGeom prst="line">
            <a:avLst/>
          </a:prstGeom>
          <a:ln w="9360">
            <a:solidFill>
              <a:srgbClr val="ff03e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685800" y="334800"/>
            <a:ext cx="7772400" cy="572796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2700360" y="141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3e7"/>
                </a:solidFill>
                <a:latin typeface="Arial"/>
              </a:rPr>
              <a:t>L’arbre à cam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2626920" y="1844640"/>
            <a:ext cx="865080" cy="1655640"/>
          </a:xfrm>
          <a:prstGeom prst="line">
            <a:avLst/>
          </a:prstGeom>
          <a:ln w="9360">
            <a:solidFill>
              <a:srgbClr val="ff03e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1952640" y="1305000"/>
            <a:ext cx="6075360" cy="43923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3924360" y="184464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987640" y="1341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3e7"/>
                </a:solidFill>
                <a:latin typeface="Arial"/>
              </a:rPr>
              <a:t>La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3e7"/>
                </a:solidFill>
                <a:latin typeface="Arial"/>
              </a:rPr>
              <a:t>bougi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780000" y="1628640"/>
            <a:ext cx="1223640" cy="1729080"/>
          </a:xfrm>
          <a:prstGeom prst="line">
            <a:avLst/>
          </a:prstGeom>
          <a:ln w="9360">
            <a:solidFill>
              <a:srgbClr val="ff03e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103400" y="1197000"/>
            <a:ext cx="6937200" cy="403380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3348000" y="1341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3e7"/>
                </a:solidFill>
                <a:latin typeface="Arial"/>
              </a:rPr>
              <a:t>Un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3e7"/>
                </a:solidFill>
                <a:latin typeface="Arial"/>
              </a:rPr>
              <a:t>soupap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55640" y="1474920"/>
            <a:ext cx="27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419640" y="60213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3e7"/>
                </a:solidFill>
                <a:latin typeface="Arial"/>
              </a:rPr>
              <a:t>Le ressort d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3e7"/>
                </a:solidFill>
                <a:latin typeface="Arial"/>
              </a:rPr>
              <a:t>soupap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4932360" y="4868640"/>
            <a:ext cx="144360" cy="115236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356000" y="1844640"/>
            <a:ext cx="360360" cy="289080"/>
          </a:xfrm>
          <a:prstGeom prst="line">
            <a:avLst/>
          </a:prstGeom>
          <a:ln w="9360">
            <a:solidFill>
              <a:srgbClr val="ff03e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861840" y="330120"/>
            <a:ext cx="7418520" cy="573588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3780000" y="9079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3e7"/>
                </a:solidFill>
                <a:latin typeface="Arial"/>
              </a:rPr>
              <a:t>La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3e7"/>
                </a:solidFill>
                <a:latin typeface="Arial"/>
              </a:rPr>
              <a:t>biell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0" y="1557360"/>
            <a:ext cx="360360" cy="863640"/>
          </a:xfrm>
          <a:prstGeom prst="line">
            <a:avLst/>
          </a:prstGeom>
          <a:ln w="9360">
            <a:solidFill>
              <a:srgbClr val="ff03e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1060560" y="1341360"/>
            <a:ext cx="7022880" cy="37134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3203640" y="141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3e7"/>
                </a:solidFill>
                <a:latin typeface="Arial"/>
              </a:rPr>
              <a:t>Le</a:t>
            </a:r>
            <a:r>
              <a:rPr b="0" lang="en-US" sz="1800" spc="-1" strike="noStrike">
                <a:solidFill>
                  <a:srgbClr val="ff03e7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3e7"/>
                </a:solidFill>
                <a:latin typeface="Arial"/>
              </a:rPr>
              <a:t>carburateur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995640" y="1916280"/>
            <a:ext cx="216000" cy="649080"/>
          </a:xfrm>
          <a:prstGeom prst="line">
            <a:avLst/>
          </a:prstGeom>
          <a:ln w="9360">
            <a:solidFill>
              <a:srgbClr val="ff03e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07:21:10Z</dcterms:created>
  <dc:creator>Invité</dc:creator>
  <dc:description/>
  <dc:language>en-US</dc:language>
  <cp:lastModifiedBy>bourdillon--carlotti</cp:lastModifiedBy>
  <dcterms:modified xsi:type="dcterms:W3CDTF">2009-01-20T09:28:02Z</dcterms:modified>
  <cp:revision>25</cp:revision>
  <dc:subject/>
  <dc:title>Diapositive 1</dc:title>
</cp:coreProperties>
</file>