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6DA-7A79-43B2-A4CA-5D81E1FE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678-1415-49FE-8913-8EF77DD8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F5C-E64C-4575-AA51-F9571090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47F-371C-4255-A0E1-A9361347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863-93C5-489C-AFAD-211FA193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69E-FF25-4839-BF12-8137E281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50A-9191-4FF4-A95B-C952772F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A48-7172-4034-B0F1-379D3885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8C5-074C-4368-A5FB-04D9D135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BB5-AF05-4983-91E6-67E57F71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3FB-A43F-4A01-AA39-8EB753CB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BA2-001D-4247-A146-C89ACFC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4AE7-9156-4F50-999D-F9F95C28C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888840 h 6858000"/>
              <a:gd name="textAreaBottom" fmla="*/ 59691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1916280"/>
            <a:ext cx="6408720" cy="37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alatino Linotype"/>
              </a:rPr>
              <a:t>démarrage mote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2679" t="12731" r="11883" b="6139"/>
          <a:stretch/>
        </p:blipFill>
        <p:spPr>
          <a:xfrm>
            <a:off x="2050920" y="250920"/>
            <a:ext cx="5257800" cy="487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5373720"/>
            <a:ext cx="6624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démarrer le moteu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ifi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 bou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ype, l’écartement de l’électrode, son ét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4500360" y="1052280"/>
            <a:ext cx="502920" cy="4321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7147" t="7611" r="9866" b="13196"/>
          <a:stretch/>
        </p:blipFill>
        <p:spPr>
          <a:xfrm>
            <a:off x="1908000" y="260280"/>
            <a:ext cx="5688360" cy="5056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2360" y="5805360"/>
            <a:ext cx="57610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ifi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'essence et l’hu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niveau et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995280" y="1341360"/>
            <a:ext cx="1945080" cy="4579920"/>
            <a:chOff x="3995280" y="1341360"/>
            <a:chExt cx="1945080" cy="4579920"/>
          </a:xfrm>
        </p:grpSpPr>
        <p:sp>
          <p:nvSpPr>
            <p:cNvPr id="49" name=""/>
            <p:cNvSpPr/>
            <p:nvPr/>
          </p:nvSpPr>
          <p:spPr>
            <a:xfrm flipH="1" flipV="1">
              <a:off x="3995280" y="1341360"/>
              <a:ext cx="647640" cy="4579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572000" y="4292280"/>
              <a:ext cx="1368360" cy="86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987640" y="2205000"/>
            <a:ext cx="792360" cy="3672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7074" t="3844" r="21373" b="24364"/>
          <a:stretch/>
        </p:blipFill>
        <p:spPr>
          <a:xfrm>
            <a:off x="2411280" y="189000"/>
            <a:ext cx="3610080" cy="5616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6165720"/>
            <a:ext cx="482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ifi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 filtre à a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état et prése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2781360"/>
            <a:ext cx="503280" cy="3457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1019" t="3191" r="16469" b="22028"/>
          <a:stretch/>
        </p:blipFill>
        <p:spPr>
          <a:xfrm>
            <a:off x="2195640" y="260280"/>
            <a:ext cx="4717800" cy="504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40000" y="5805360"/>
            <a:ext cx="4175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vri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 robinet d’ess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356000" y="2923920"/>
            <a:ext cx="1008000" cy="302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1468" t="11154" r="10499" b="1334"/>
          <a:stretch/>
        </p:blipFill>
        <p:spPr>
          <a:xfrm>
            <a:off x="1763640" y="260280"/>
            <a:ext cx="5256360" cy="507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516640"/>
            <a:ext cx="6624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fin mettre 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r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acteur sur « on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tirer sur 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c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411280" y="3789360"/>
            <a:ext cx="936720" cy="2160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203280" y="1699920"/>
            <a:ext cx="1152360" cy="4033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219640" y="1844640"/>
            <a:ext cx="1728720" cy="3960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2:32:31Z</dcterms:created>
  <dc:creator>EREA AJACCIO POSTE 3</dc:creator>
  <dc:description/>
  <dc:language>en-US</dc:language>
  <cp:lastModifiedBy>EREA AJACCIO POSTE 3</cp:lastModifiedBy>
  <dcterms:modified xsi:type="dcterms:W3CDTF">2008-11-13T15:01:55Z</dcterms:modified>
  <cp:revision>15</cp:revision>
  <dc:subject/>
  <dc:title>Diapositive 1</dc:title>
</cp:coreProperties>
</file>